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63B8-FE13-4072-AF5A-B0ACA633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C50D-AE4B-4A9E-83D7-57E07EF8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704A-FF5E-4E0F-B496-8C854147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53F9-7D8C-4506-891B-420C1F8A2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FE1F-DE1E-4DD6-812A-A5465094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1F4B-C0AB-4AEC-A201-122E4D15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D734-B9ED-4605-95BA-5E234FFC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AD68-A9F4-4627-8DD6-237AC8AA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D082-7867-4431-827A-2908B942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5695-70B1-405F-8F86-001BB6A1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D50A-3C58-4E2C-9225-53FF88CE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2BAC-F5F8-498C-92BF-6C9D96C6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9301-9A49-44F3-A572-3FD01DF4F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1.png"/><Relationship Id="rId7" Type="http://schemas.openxmlformats.org/officeDocument/2006/relationships/image" Target="../media/image20.png"/><Relationship Id="rId8" Type="http://schemas.openxmlformats.org/officeDocument/2006/relationships/image" Target="../media/image2.png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21.png"/><Relationship Id="rId5" Type="http://schemas.openxmlformats.org/officeDocument/2006/relationships/image" Target="../media/image1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.png"/><Relationship Id="rId7" Type="http://schemas.openxmlformats.org/officeDocument/2006/relationships/image" Target="../media/image9.png"/><Relationship Id="rId8" Type="http://schemas.openxmlformats.org/officeDocument/2006/relationships/image" Target="../media/image2.png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21.png"/><Relationship Id="rId5" Type="http://schemas.openxmlformats.org/officeDocument/2006/relationships/image" Target="../media/image1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biLevel thresh="50000"/>
            <a:lum bright="-18000"/>
          </a:blip>
          <a:stretch/>
        </p:blipFill>
        <p:spPr>
          <a:xfrm>
            <a:off x="611280" y="2349360"/>
            <a:ext cx="514080" cy="2194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47640" y="2133720"/>
            <a:ext cx="2087640" cy="718920"/>
          </a:xfrm>
          <a:prstGeom prst="wedgeRoundRectCallout">
            <a:avLst>
              <a:gd name="adj1" fmla="val -71217"/>
              <a:gd name="adj2" fmla="val 3057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"I am praying 3 Rakaats for Salaatul Maghrib,  Wajib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Qurbatan Ilalla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” [Seeking the pleasure of Allah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>
            <a:biLevel thresh="50000"/>
            <a:lum bright="-18000"/>
          </a:blip>
          <a:stretch/>
        </p:blipFill>
        <p:spPr>
          <a:xfrm>
            <a:off x="4572000" y="2781360"/>
            <a:ext cx="514440" cy="2193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>
            <a:biLevel thresh="50000"/>
            <a:lum bright="-12000"/>
          </a:blip>
          <a:stretch/>
        </p:blipFill>
        <p:spPr>
          <a:xfrm>
            <a:off x="6156360" y="4005360"/>
            <a:ext cx="914400" cy="444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867280" y="3860640"/>
            <a:ext cx="1371600" cy="685800"/>
          </a:xfrm>
          <a:prstGeom prst="wedgeEllipseCallout">
            <a:avLst>
              <a:gd name="adj1" fmla="val -109375"/>
              <a:gd name="adj2" fmla="val -148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2492280"/>
            <a:ext cx="2133720" cy="649440"/>
          </a:xfrm>
          <a:prstGeom prst="cloudCallout">
            <a:avLst>
              <a:gd name="adj1" fmla="val -86902"/>
              <a:gd name="adj2" fmla="val 595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Allah is greater than anything or any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1" idx="3"/>
            <a:endCxn id="43" idx="1"/>
          </p:cNvCxnSpPr>
          <p:nvPr/>
        </p:nvCxnSpPr>
        <p:spPr>
          <a:xfrm>
            <a:off x="1125360" y="3446280"/>
            <a:ext cx="3447000" cy="4323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 txBox="1"/>
          <p:nvPr/>
        </p:nvSpPr>
        <p:spPr>
          <a:xfrm>
            <a:off x="395280" y="1773360"/>
            <a:ext cx="69516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.  NIYYAT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788000" y="1989000"/>
            <a:ext cx="65700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.  QIYAM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cxnSp>
        <p:nvCxnSpPr>
          <p:cNvPr id="50" name=""/>
          <p:cNvCxnSpPr/>
          <p:nvPr/>
        </p:nvCxnSpPr>
        <p:spPr>
          <a:xfrm flipH="1">
            <a:off x="1752120" y="5013360"/>
            <a:ext cx="2748960" cy="1845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 txBox="1"/>
          <p:nvPr/>
        </p:nvSpPr>
        <p:spPr>
          <a:xfrm>
            <a:off x="3492360" y="1268280"/>
            <a:ext cx="1511280" cy="2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FIRST RAKAA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84360" y="1052640"/>
            <a:ext cx="3600360" cy="541080"/>
          </a:xfrm>
          <a:custGeom>
            <a:avLst/>
            <a:gdLst>
              <a:gd name="textAreaLeft" fmla="*/ 900000 w 3600360"/>
              <a:gd name="textAreaRight" fmla="*/ 2700360 w 3600360"/>
              <a:gd name="textAreaTop" fmla="*/ 67680 h 541080"/>
              <a:gd name="textAreaBottom" fmla="*/ 541440 h 54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1844640"/>
            <a:ext cx="2305080" cy="3808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  <a:ea typeface="Arial"/>
              </a:rPr>
              <a:t>RAISE YOUR HANDS AND 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58920" y="1700280"/>
            <a:ext cx="2362320" cy="304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  <a:ea typeface="Arial"/>
              </a:rPr>
              <a:t>YOU SHOULD BE IN QIY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  <a:ea typeface="Arial"/>
              </a:rPr>
              <a:t>AND FACING QIBL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55640" y="476280"/>
            <a:ext cx="5248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cademy Engraved LET"/>
              </a:rPr>
              <a:t>SALAAH RECITATIO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cademy Engraved LET"/>
              <a:ea typeface="Academy Engraved LET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458120" y="0"/>
            <a:ext cx="1685880" cy="12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2133720" y="5029200"/>
            <a:ext cx="305748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0. SIT FOR A MOMENT THEN RISE SAYING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952880" y="5334120"/>
          <a:ext cx="76212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5334120"/>
                    <a:ext cx="7621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6248520" y="4648320"/>
            <a:ext cx="2666880" cy="990360"/>
          </a:xfrm>
          <a:prstGeom prst="wedgeEllipseCallout">
            <a:avLst>
              <a:gd name="adj1" fmla="val -72916"/>
              <a:gd name="adj2" fmla="val 53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>
            <a:biLevel thresh="50000"/>
            <a:lum bright="-18000"/>
          </a:blip>
          <a:stretch/>
        </p:blipFill>
        <p:spPr>
          <a:xfrm>
            <a:off x="6477120" y="4952880"/>
            <a:ext cx="2257200" cy="4381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248520" y="5791320"/>
            <a:ext cx="2590560" cy="838080"/>
          </a:xfrm>
          <a:prstGeom prst="cloudCallout">
            <a:avLst>
              <a:gd name="adj1" fmla="val -72240"/>
              <a:gd name="adj2" fmla="val -494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Times New Roman"/>
              </a:rPr>
              <a:t>Due to the vigor given by Allah and because of the vitality from Him I rise and stan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03280" y="1125360"/>
            <a:ext cx="107640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. TASHAHUD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4">
            <a:biLevel thresh="50000"/>
            <a:lum bright="-18000"/>
          </a:blip>
          <a:stretch/>
        </p:blipFill>
        <p:spPr>
          <a:xfrm>
            <a:off x="838080" y="1371600"/>
            <a:ext cx="922320" cy="13795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>
            <a:biLevel thresh="50000"/>
            <a:lum bright="-24000"/>
          </a:blip>
          <a:stretch/>
        </p:blipFill>
        <p:spPr>
          <a:xfrm>
            <a:off x="1676520" y="2743200"/>
            <a:ext cx="2714400" cy="1085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371600" y="2438280"/>
            <a:ext cx="3352680" cy="1600200"/>
          </a:xfrm>
          <a:prstGeom prst="wedgeEllipseCallout">
            <a:avLst>
              <a:gd name="adj1" fmla="val -43180"/>
              <a:gd name="adj2" fmla="val -907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51280" y="1413000"/>
            <a:ext cx="3886200" cy="1371600"/>
          </a:xfrm>
          <a:prstGeom prst="cloudCallout">
            <a:avLst>
              <a:gd name="adj1" fmla="val -105310"/>
              <a:gd name="adj2" fmla="val -312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I testify that there is none worth worshipping except the Almighty Allah, Who is One and has no partner, and I testify that Muhammad is His servant and messenger. O Allah! Send Your blessings on Muhammad and his progen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2" idx="1"/>
          </p:cNvCxnSpPr>
          <p:nvPr/>
        </p:nvCxnSpPr>
        <p:spPr>
          <a:xfrm flipH="1" flipV="1" rot="10800000">
            <a:off x="837720" y="2061000"/>
            <a:ext cx="4115520" cy="3606120"/>
          </a:xfrm>
          <a:prstGeom prst="bentConnector3">
            <a:avLst>
              <a:gd name="adj1" fmla="val -555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"/>
          <p:cNvCxnSpPr/>
          <p:nvPr/>
        </p:nvCxnSpPr>
        <p:spPr>
          <a:xfrm rot="5400000">
            <a:off x="4752360" y="6276600"/>
            <a:ext cx="857880" cy="30564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endCxn id="212" idx="0"/>
          </p:cNvCxnSpPr>
          <p:nvPr/>
        </p:nvCxnSpPr>
        <p:spPr>
          <a:xfrm flipH="1" rot="16200000">
            <a:off x="421560" y="492480"/>
            <a:ext cx="1372320" cy="38664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"/>
          <p:cNvSpPr txBox="1"/>
          <p:nvPr/>
        </p:nvSpPr>
        <p:spPr>
          <a:xfrm>
            <a:off x="1619280" y="404640"/>
            <a:ext cx="5248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cademy Engraved LET"/>
              </a:rPr>
              <a:t>SALAAH RECITATIO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cademy Engraved LET"/>
              <a:ea typeface="Academy Engraved LET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848720" y="0"/>
            <a:ext cx="12952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492360" y="1413000"/>
            <a:ext cx="17877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THIRD RAKAA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56000" y="1197000"/>
            <a:ext cx="3641760" cy="582480"/>
          </a:xfrm>
          <a:custGeom>
            <a:avLst/>
            <a:gdLst>
              <a:gd name="textAreaLeft" fmla="*/ 910440 w 3641760"/>
              <a:gd name="textAreaRight" fmla="*/ 2731320 w 3641760"/>
              <a:gd name="textAreaTop" fmla="*/ 72720 h 582480"/>
              <a:gd name="textAreaBottom" fmla="*/ 582840 h 58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>
            <a:biLevel thresh="50000"/>
            <a:lum bright="-18000"/>
          </a:blip>
          <a:stretch/>
        </p:blipFill>
        <p:spPr>
          <a:xfrm>
            <a:off x="1619280" y="2492280"/>
            <a:ext cx="514440" cy="21942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700360" y="4797360"/>
            <a:ext cx="2819520" cy="1295640"/>
          </a:xfrm>
          <a:prstGeom prst="wedgeRoundRectCallout">
            <a:avLst>
              <a:gd name="adj1" fmla="val -70384"/>
              <a:gd name="adj2" fmla="val -14215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11640" y="3429000"/>
            <a:ext cx="3505320" cy="1066680"/>
          </a:xfrm>
          <a:prstGeom prst="cloudCallout">
            <a:avLst>
              <a:gd name="adj1" fmla="val -108833"/>
              <a:gd name="adj2" fmla="val -1034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Times New Roman"/>
              </a:rPr>
              <a:t>Glory be to Allah, and all praise is for Him and there is no one worth worshipping other than Allah, and He is Greater than any descri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26920" y="1916280"/>
            <a:ext cx="83844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1. QIRAAT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68360" y="2205000"/>
            <a:ext cx="2133720" cy="457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  <a:ea typeface="Arial"/>
              </a:rPr>
              <a:t>YOU SHOULD REC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  <a:ea typeface="Arial"/>
              </a:rPr>
              <a:t>TASBIHATE ARBAA 3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/>
          <p:nvPr/>
        </p:nvCxnSpPr>
        <p:spPr>
          <a:xfrm rot="5400000">
            <a:off x="192240" y="5215680"/>
            <a:ext cx="2061360" cy="1224720"/>
          </a:xfrm>
          <a:prstGeom prst="bentConnector3">
            <a:avLst>
              <a:gd name="adj1" fmla="val 4999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916360" y="4869000"/>
            <a:ext cx="2447640" cy="1056960"/>
          </a:xfrm>
          <a:prstGeom prst="rect">
            <a:avLst/>
          </a:prstGeom>
          <a:ln w="0">
            <a:noFill/>
          </a:ln>
        </p:spPr>
      </p:pic>
      <p:cxnSp>
        <p:nvCxnSpPr>
          <p:cNvPr id="230" name=""/>
          <p:cNvCxnSpPr>
            <a:endCxn id="223" idx="1"/>
          </p:cNvCxnSpPr>
          <p:nvPr/>
        </p:nvCxnSpPr>
        <p:spPr>
          <a:xfrm flipH="1" rot="16200000">
            <a:off x="-822960" y="1146600"/>
            <a:ext cx="3589920" cy="129600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" name=""/>
          <p:cNvSpPr txBox="1"/>
          <p:nvPr/>
        </p:nvSpPr>
        <p:spPr>
          <a:xfrm>
            <a:off x="900000" y="404640"/>
            <a:ext cx="5248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cademy Engraved LET"/>
              </a:rPr>
              <a:t>SALAAH RECITATIO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cademy Engraved LET"/>
              <a:ea typeface="Academy Engraved LET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7704000" y="0"/>
            <a:ext cx="144000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>
            <a:biLevel thresh="50000"/>
            <a:lum bright="-12000"/>
          </a:blip>
          <a:stretch/>
        </p:blipFill>
        <p:spPr>
          <a:xfrm>
            <a:off x="0" y="1295280"/>
            <a:ext cx="514440" cy="2194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>
            <a:biLevel thresh="50000"/>
            <a:lum bright="-18000"/>
          </a:blip>
          <a:stretch/>
        </p:blipFill>
        <p:spPr>
          <a:xfrm>
            <a:off x="762120" y="2286000"/>
            <a:ext cx="914400" cy="4446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143000" y="990720"/>
            <a:ext cx="2133720" cy="685800"/>
          </a:xfrm>
          <a:prstGeom prst="cloudCallout">
            <a:avLst>
              <a:gd name="adj1" fmla="val -76638"/>
              <a:gd name="adj2" fmla="val 245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Allah is greater than anything or any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209680"/>
            <a:ext cx="1371600" cy="685800"/>
          </a:xfrm>
          <a:prstGeom prst="wedgeEllipseCallout">
            <a:avLst>
              <a:gd name="adj1" fmla="val -51157"/>
              <a:gd name="adj2" fmla="val -122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>
            <a:biLevel thresh="50000"/>
            <a:lum bright="-18000"/>
          </a:blip>
          <a:stretch/>
        </p:blipFill>
        <p:spPr>
          <a:xfrm>
            <a:off x="4356000" y="21337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>
            <a:biLevel thresh="50000"/>
            <a:lum bright="-24000"/>
          </a:blip>
          <a:stretch/>
        </p:blipFill>
        <p:spPr>
          <a:xfrm>
            <a:off x="6012000" y="3357720"/>
            <a:ext cx="2247840" cy="361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>
            <a:biLevel thresh="50000"/>
            <a:lum bright="-24000"/>
          </a:blip>
          <a:stretch/>
        </p:blipFill>
        <p:spPr>
          <a:xfrm>
            <a:off x="5940360" y="3716280"/>
            <a:ext cx="2525760" cy="4111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5651640" y="3213000"/>
            <a:ext cx="3047760" cy="1219320"/>
          </a:xfrm>
          <a:prstGeom prst="wedgeEllipseCallout">
            <a:avLst>
              <a:gd name="adj1" fmla="val -63800"/>
              <a:gd name="adj2" fmla="val -9440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84720" y="1628640"/>
            <a:ext cx="2735280" cy="1152720"/>
          </a:xfrm>
          <a:prstGeom prst="cloudCallout">
            <a:avLst>
              <a:gd name="adj1" fmla="val -73333"/>
              <a:gd name="adj2" fmla="val 55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Glory be to Allah, the Supreme, and all praise is for Him. O Allah, send your blessings to Prophet Muhammad and his famil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52280" y="457200"/>
            <a:ext cx="76212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2. QIYAM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419720" y="1752480"/>
            <a:ext cx="58104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3. RUKU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6">
            <a:biLevel thresh="50000"/>
            <a:lum bright="-12000"/>
          </a:blip>
          <a:stretch/>
        </p:blipFill>
        <p:spPr>
          <a:xfrm>
            <a:off x="3200400" y="4419720"/>
            <a:ext cx="514440" cy="21938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7">
            <a:biLevel thresh="50000"/>
            <a:lum bright="-18000"/>
          </a:blip>
          <a:stretch/>
        </p:blipFill>
        <p:spPr>
          <a:xfrm>
            <a:off x="4343400" y="5486400"/>
            <a:ext cx="1562040" cy="361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114800" y="5334120"/>
            <a:ext cx="1981080" cy="1066680"/>
          </a:xfrm>
          <a:prstGeom prst="wedgeEllipseCallout">
            <a:avLst>
              <a:gd name="adj1" fmla="val -49759"/>
              <a:gd name="adj2" fmla="val -94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8">
            <a:biLevel thresh="50000"/>
            <a:lum bright="-18000"/>
          </a:blip>
          <a:stretch/>
        </p:blipFill>
        <p:spPr>
          <a:xfrm>
            <a:off x="4724280" y="5867280"/>
            <a:ext cx="914400" cy="4446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2590920" y="4114800"/>
            <a:ext cx="61884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4. QIYAM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cxnSp>
        <p:nvCxnSpPr>
          <p:cNvPr id="249" name=""/>
          <p:cNvCxnSpPr>
            <a:stCxn id="237" idx="2"/>
            <a:endCxn id="244" idx="0"/>
          </p:cNvCxnSpPr>
          <p:nvPr/>
        </p:nvCxnSpPr>
        <p:spPr>
          <a:xfrm rot="5400000">
            <a:off x="3792600" y="3321720"/>
            <a:ext cx="762840" cy="143424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44" idx="1"/>
          </p:cNvCxnSpPr>
          <p:nvPr/>
        </p:nvCxnSpPr>
        <p:spPr>
          <a:xfrm flipV="1" rot="10800000">
            <a:off x="2590200" y="5516280"/>
            <a:ext cx="610200" cy="13420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533520" y="4343400"/>
            <a:ext cx="2209680" cy="1143000"/>
          </a:xfrm>
          <a:prstGeom prst="cloudCallout">
            <a:avLst>
              <a:gd name="adj1" fmla="val 69754"/>
              <a:gd name="adj2" fmla="val -273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Allah hears anyone who praises Him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Allah is greater than anything or any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33" idx="0"/>
          </p:cNvCxnSpPr>
          <p:nvPr/>
        </p:nvCxnSpPr>
        <p:spPr>
          <a:xfrm flipH="1" flipV="1" rot="5400000">
            <a:off x="13680" y="242280"/>
            <a:ext cx="1296000" cy="810360"/>
          </a:xfrm>
          <a:prstGeom prst="bentConnector3">
            <a:avLst>
              <a:gd name="adj1" fmla="val 30619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53" name=""/>
          <p:cNvCxnSpPr>
            <a:stCxn id="233" idx="2"/>
            <a:endCxn id="237" idx="1"/>
          </p:cNvCxnSpPr>
          <p:nvPr/>
        </p:nvCxnSpPr>
        <p:spPr>
          <a:xfrm flipH="1" flipV="1" rot="5400000">
            <a:off x="2009160" y="1142640"/>
            <a:ext cx="594720" cy="4099320"/>
          </a:xfrm>
          <a:prstGeom prst="bentConnector4">
            <a:avLst>
              <a:gd name="adj1" fmla="val -38461"/>
              <a:gd name="adj2" fmla="val 5313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"/>
          <p:cNvSpPr txBox="1"/>
          <p:nvPr/>
        </p:nvSpPr>
        <p:spPr>
          <a:xfrm>
            <a:off x="1547640" y="404640"/>
            <a:ext cx="5248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cademy Engraved LET"/>
              </a:rPr>
              <a:t>SALAAH RECITATIO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cademy Engraved LET"/>
              <a:ea typeface="Academy Engraved LET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9"/>
          <a:stretch/>
        </p:blipFill>
        <p:spPr>
          <a:xfrm>
            <a:off x="7777080" y="0"/>
            <a:ext cx="136692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>
            <a:biLevel thresh="50000"/>
            <a:lum bright="-12000"/>
          </a:blip>
          <a:stretch/>
        </p:blipFill>
        <p:spPr>
          <a:xfrm>
            <a:off x="685800" y="2209680"/>
            <a:ext cx="1714680" cy="10288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0" y="3733920"/>
            <a:ext cx="2971800" cy="1295280"/>
          </a:xfrm>
          <a:prstGeom prst="wedgeEllipseCallout">
            <a:avLst>
              <a:gd name="adj1" fmla="val 22060"/>
              <a:gd name="adj2" fmla="val -911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>
            <a:biLevel thresh="50000"/>
            <a:lum bright="-24000"/>
          </a:blip>
          <a:stretch/>
        </p:blipFill>
        <p:spPr>
          <a:xfrm>
            <a:off x="380880" y="3962520"/>
            <a:ext cx="2133720" cy="3999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>
            <a:biLevel thresh="50000"/>
            <a:lum bright="-24000"/>
          </a:blip>
          <a:stretch/>
        </p:blipFill>
        <p:spPr>
          <a:xfrm>
            <a:off x="228600" y="4343400"/>
            <a:ext cx="2525760" cy="411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380880" y="685800"/>
            <a:ext cx="77148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5. SAJDAH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4">
            <a:biLevel thresh="50000"/>
            <a:lum bright="-18000"/>
          </a:blip>
          <a:stretch/>
        </p:blipFill>
        <p:spPr>
          <a:xfrm>
            <a:off x="4114800" y="3581280"/>
            <a:ext cx="922320" cy="13795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5867280" y="5105520"/>
            <a:ext cx="2743200" cy="1371600"/>
          </a:xfrm>
          <a:prstGeom prst="wedgeEllipseCallout">
            <a:avLst>
              <a:gd name="adj1" fmla="val -83162"/>
              <a:gd name="adj2" fmla="val -1281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5">
            <a:biLevel thresh="50000"/>
            <a:lum bright="-24000"/>
          </a:blip>
          <a:stretch/>
        </p:blipFill>
        <p:spPr>
          <a:xfrm>
            <a:off x="6248520" y="5562720"/>
            <a:ext cx="2038320" cy="4381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6">
            <a:biLevel thresh="50000"/>
            <a:lum bright="-18000"/>
          </a:blip>
          <a:stretch/>
        </p:blipFill>
        <p:spPr>
          <a:xfrm>
            <a:off x="6781680" y="5181480"/>
            <a:ext cx="914400" cy="4446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7">
            <a:biLevel thresh="50000"/>
            <a:lum bright="-18000"/>
          </a:blip>
          <a:stretch/>
        </p:blipFill>
        <p:spPr>
          <a:xfrm>
            <a:off x="6781680" y="6019920"/>
            <a:ext cx="914400" cy="3808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191120" y="3352680"/>
            <a:ext cx="76176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6. JULOO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cxnSp>
        <p:nvCxnSpPr>
          <p:cNvPr id="267" name=""/>
          <p:cNvCxnSpPr>
            <a:stCxn id="256" idx="3"/>
          </p:cNvCxnSpPr>
          <p:nvPr/>
        </p:nvCxnSpPr>
        <p:spPr>
          <a:xfrm>
            <a:off x="2400480" y="2723760"/>
            <a:ext cx="1638720" cy="1467720"/>
          </a:xfrm>
          <a:prstGeom prst="bentConnector3">
            <a:avLst>
              <a:gd name="adj1" fmla="val 4998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endCxn id="256" idx="1"/>
          </p:cNvCxnSpPr>
          <p:nvPr/>
        </p:nvCxnSpPr>
        <p:spPr>
          <a:xfrm flipH="1" rot="16200000">
            <a:off x="-943200" y="1094760"/>
            <a:ext cx="2724840" cy="534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9" name=""/>
          <p:cNvCxnSpPr>
            <a:stCxn id="261" idx="2"/>
          </p:cNvCxnSpPr>
          <p:nvPr/>
        </p:nvCxnSpPr>
        <p:spPr>
          <a:xfrm flipH="1" rot="16200000">
            <a:off x="4268520" y="5267880"/>
            <a:ext cx="1897920" cy="1283400"/>
          </a:xfrm>
          <a:prstGeom prst="bentConnector3">
            <a:avLst>
              <a:gd name="adj1" fmla="val 6082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>
            <a:off x="3352680" y="990720"/>
            <a:ext cx="3048120" cy="1066680"/>
          </a:xfrm>
          <a:prstGeom prst="cloudCallout">
            <a:avLst>
              <a:gd name="adj1" fmla="val -82134"/>
              <a:gd name="adj2" fmla="val 10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Glory be to Allah the Most High and all praise is for H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O Allah, send your blessings to Prophet Muhammad and his famil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2743200"/>
            <a:ext cx="2971800" cy="1295280"/>
          </a:xfrm>
          <a:prstGeom prst="cloudCallout">
            <a:avLst>
              <a:gd name="adj1" fmla="val -77990"/>
              <a:gd name="adj2" fmla="val 291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Allah is greater then anything or anyone; I seek forgiveness from Allah, my Lord, and turn to Him in repentance; Allah is greater then anything or any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619280" y="476280"/>
            <a:ext cx="5248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cademy Engraved LET"/>
              </a:rPr>
              <a:t>SALAAH RECITATIO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cademy Engraved LET"/>
              <a:ea typeface="Academy Engraved LET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8"/>
          <a:stretch/>
        </p:blipFill>
        <p:spPr>
          <a:xfrm>
            <a:off x="7775640" y="0"/>
            <a:ext cx="136836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>
            <a:biLevel thresh="50000"/>
            <a:lum bright="-12000"/>
          </a:blip>
          <a:stretch/>
        </p:blipFill>
        <p:spPr>
          <a:xfrm>
            <a:off x="609480" y="1752480"/>
            <a:ext cx="1714680" cy="10288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564000" y="2205000"/>
            <a:ext cx="2971800" cy="1295280"/>
          </a:xfrm>
          <a:prstGeom prst="wedgeEllipseCallout">
            <a:avLst>
              <a:gd name="adj1" fmla="val -98930"/>
              <a:gd name="adj2" fmla="val -1299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>
            <a:biLevel thresh="50000"/>
            <a:lum bright="-24000"/>
          </a:blip>
          <a:stretch/>
        </p:blipFill>
        <p:spPr>
          <a:xfrm>
            <a:off x="4067280" y="2421000"/>
            <a:ext cx="1973160" cy="3855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>
            <a:biLevel thresh="50000"/>
            <a:lum bright="-24000"/>
          </a:blip>
          <a:stretch/>
        </p:blipFill>
        <p:spPr>
          <a:xfrm>
            <a:off x="3851280" y="2781360"/>
            <a:ext cx="2525760" cy="411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68360" y="1125360"/>
            <a:ext cx="105732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7. 2nd SAJDAH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cxnSp>
        <p:nvCxnSpPr>
          <p:cNvPr id="279" name=""/>
          <p:cNvCxnSpPr>
            <a:endCxn id="274" idx="1"/>
          </p:cNvCxnSpPr>
          <p:nvPr/>
        </p:nvCxnSpPr>
        <p:spPr>
          <a:xfrm flipH="1" rot="16200000">
            <a:off x="-740160" y="918000"/>
            <a:ext cx="2267640" cy="4309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4067280" y="1052640"/>
            <a:ext cx="3047760" cy="1066680"/>
          </a:xfrm>
          <a:prstGeom prst="cloudCallout">
            <a:avLst>
              <a:gd name="adj1" fmla="val -104949"/>
              <a:gd name="adj2" fmla="val 644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Glory be to Allah the Most High and all praise is for H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O Allah, send your blessings to Prophet Muhammad and his famil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447920" y="4191120"/>
            <a:ext cx="107604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8. TASHAHUD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4">
            <a:biLevel thresh="50000"/>
            <a:lum bright="-18000"/>
          </a:blip>
          <a:stretch/>
        </p:blipFill>
        <p:spPr>
          <a:xfrm>
            <a:off x="1828800" y="4495680"/>
            <a:ext cx="922320" cy="13795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">
            <a:biLevel thresh="50000"/>
            <a:lum bright="-24000"/>
          </a:blip>
          <a:stretch/>
        </p:blipFill>
        <p:spPr>
          <a:xfrm>
            <a:off x="3048120" y="5486400"/>
            <a:ext cx="2714400" cy="10857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743200" y="5257800"/>
            <a:ext cx="3352680" cy="1484280"/>
          </a:xfrm>
          <a:prstGeom prst="wedgeEllipseCallout">
            <a:avLst>
              <a:gd name="adj1" fmla="val -49291"/>
              <a:gd name="adj2" fmla="val -67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64000" y="3933720"/>
            <a:ext cx="3048120" cy="1600200"/>
          </a:xfrm>
          <a:prstGeom prst="cloudCallout">
            <a:avLst>
              <a:gd name="adj1" fmla="val -131564"/>
              <a:gd name="adj2" fmla="val -674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I testify that there is none worth worshipping except the Almighty Allah, Who is One and has no partner, and I testify that Muhammad is His servant and messenger. O Allah! Send Your blessings on Muhammad and his progen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"/>
          <p:cNvCxnSpPr>
            <a:endCxn id="282" idx="1"/>
          </p:cNvCxnSpPr>
          <p:nvPr/>
        </p:nvCxnSpPr>
        <p:spPr>
          <a:xfrm rot="5400000">
            <a:off x="664560" y="4016160"/>
            <a:ext cx="2334600" cy="7200"/>
          </a:xfrm>
          <a:prstGeom prst="bentConnector4">
            <a:avLst>
              <a:gd name="adj1" fmla="val 35163"/>
              <a:gd name="adj2" fmla="val 123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82" idx="2"/>
          </p:cNvCxnSpPr>
          <p:nvPr/>
        </p:nvCxnSpPr>
        <p:spPr>
          <a:xfrm rot="5400000">
            <a:off x="1605600" y="6173640"/>
            <a:ext cx="983520" cy="386280"/>
          </a:xfrm>
          <a:prstGeom prst="bentConnector3">
            <a:avLst>
              <a:gd name="adj1" fmla="val 4990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 txBox="1"/>
          <p:nvPr/>
        </p:nvSpPr>
        <p:spPr>
          <a:xfrm>
            <a:off x="684360" y="476280"/>
            <a:ext cx="5248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cademy Engraved LET"/>
              </a:rPr>
              <a:t>SALAAH RECITATIO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cademy Engraved LET"/>
              <a:ea typeface="Academy Engraved LET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6"/>
          <a:stretch/>
        </p:blipFill>
        <p:spPr>
          <a:xfrm>
            <a:off x="7704000" y="0"/>
            <a:ext cx="144000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>
            <a:biLevel thresh="50000"/>
            <a:lum bright="-24000"/>
          </a:blip>
          <a:stretch/>
        </p:blipFill>
        <p:spPr>
          <a:xfrm>
            <a:off x="762120" y="2743200"/>
            <a:ext cx="3038400" cy="11336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>
            <a:biLevel thresh="50000"/>
            <a:lum bright="-18000"/>
          </a:blip>
          <a:stretch/>
        </p:blipFill>
        <p:spPr>
          <a:xfrm>
            <a:off x="380880" y="1066680"/>
            <a:ext cx="922320" cy="13795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1187280" y="981000"/>
            <a:ext cx="10764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9. SALAAM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2438280"/>
            <a:ext cx="3733920" cy="1676520"/>
          </a:xfrm>
          <a:prstGeom prst="wedgeEllipseCallout">
            <a:avLst>
              <a:gd name="adj1" fmla="val -24277"/>
              <a:gd name="adj2" fmla="val -9630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86200" y="1752480"/>
            <a:ext cx="3200400" cy="1600200"/>
          </a:xfrm>
          <a:prstGeom prst="cloudCallout">
            <a:avLst>
              <a:gd name="adj1" fmla="val -133384"/>
              <a:gd name="adj2" fmla="val -69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Times New Roman"/>
              </a:rPr>
              <a:t>O Prophet! Allah's peace, blessings and grace be upon you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Times New Roman"/>
              </a:rPr>
              <a:t>Allah's peace be on us, those offering prayers - and upon all pious servants of Allah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Times New Roman"/>
              </a:rPr>
              <a:t>Allah's peace, blessings and grace be on you believers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3">
            <a:biLevel thresh="50000"/>
            <a:lum bright="-18000"/>
          </a:blip>
          <a:stretch/>
        </p:blipFill>
        <p:spPr>
          <a:xfrm>
            <a:off x="4038480" y="4572000"/>
            <a:ext cx="922320" cy="13795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5486400" y="4572000"/>
            <a:ext cx="2133720" cy="685800"/>
          </a:xfrm>
          <a:prstGeom prst="cloudCallout">
            <a:avLst>
              <a:gd name="adj1" fmla="val -76263"/>
              <a:gd name="adj2" fmla="val -15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Allah is greater than anything or any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4">
            <a:biLevel thresh="50000"/>
            <a:lum bright="-18000"/>
          </a:blip>
          <a:stretch/>
        </p:blipFill>
        <p:spPr>
          <a:xfrm>
            <a:off x="5486400" y="6019920"/>
            <a:ext cx="914400" cy="444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5257800" y="5943600"/>
            <a:ext cx="1371600" cy="685800"/>
          </a:xfrm>
          <a:prstGeom prst="wedgeEllipseCallout">
            <a:avLst>
              <a:gd name="adj1" fmla="val -79513"/>
              <a:gd name="adj2" fmla="val -1914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657600" y="4191120"/>
            <a:ext cx="14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0. END OF SALAAH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cxnSp>
        <p:nvCxnSpPr>
          <p:cNvPr id="300" name=""/>
          <p:cNvCxnSpPr>
            <a:stCxn id="291" idx="1"/>
            <a:endCxn id="295" idx="1"/>
          </p:cNvCxnSpPr>
          <p:nvPr/>
        </p:nvCxnSpPr>
        <p:spPr>
          <a:xfrm flipH="1" flipV="1" rot="10800000">
            <a:off x="380520" y="1757160"/>
            <a:ext cx="3658320" cy="3505680"/>
          </a:xfrm>
          <a:prstGeom prst="bentConnector3">
            <a:avLst>
              <a:gd name="adj1" fmla="val -624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1" name=""/>
          <p:cNvCxnSpPr>
            <a:endCxn id="291" idx="0"/>
          </p:cNvCxnSpPr>
          <p:nvPr/>
        </p:nvCxnSpPr>
        <p:spPr>
          <a:xfrm flipH="1" rot="16200000">
            <a:off x="1440" y="225720"/>
            <a:ext cx="1067400" cy="615240"/>
          </a:xfrm>
          <a:prstGeom prst="bentConnector3">
            <a:avLst>
              <a:gd name="adj1" fmla="val 6933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"/>
          <p:cNvSpPr/>
          <p:nvPr/>
        </p:nvSpPr>
        <p:spPr>
          <a:xfrm>
            <a:off x="5334120" y="3962520"/>
            <a:ext cx="2590560" cy="457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  <a:ea typeface="Arial"/>
              </a:rPr>
              <a:t>RECITE ALLAHO AKBAR 3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  <a:ea typeface="Arial"/>
              </a:rPr>
              <a:t>AND THAT ENDS YOUR SALA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32000" y="333360"/>
            <a:ext cx="524808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cademy Engraved LET"/>
              </a:rPr>
              <a:t>SALAAH RECITATIO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cademy Engraved LET"/>
              <a:ea typeface="Academy Engraved LET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7704000" y="0"/>
            <a:ext cx="144000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biLevel thresh="50000"/>
            <a:lum bright="-18000"/>
          </a:blip>
          <a:stretch/>
        </p:blipFill>
        <p:spPr>
          <a:xfrm>
            <a:off x="4356000" y="2349360"/>
            <a:ext cx="514440" cy="219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5364000" y="2133720"/>
          <a:ext cx="3356280" cy="210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64000" y="2133720"/>
                    <a:ext cx="335628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5292720" y="2060640"/>
            <a:ext cx="3479760" cy="3959280"/>
          </a:xfrm>
          <a:prstGeom prst="wedgeRoundRectCallout">
            <a:avLst>
              <a:gd name="adj1" fmla="val -64550"/>
              <a:gd name="adj2" fmla="val -3568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580000" y="4508640"/>
          <a:ext cx="3009960" cy="13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80000" y="4508640"/>
                    <a:ext cx="3009960" cy="13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79280" y="2133720"/>
            <a:ext cx="3888000" cy="2201760"/>
          </a:xfrm>
          <a:prstGeom prst="cloudCallout">
            <a:avLst>
              <a:gd name="adj1" fmla="val 58166"/>
              <a:gd name="adj2" fmla="val -3089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In the name of Allah the most Kind, the Most Merciful; All praise is to Allah; The Kind, The Merciful; Master of the Day of Judgement ; You alone we serve &amp; You alone we ask for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Help</a:t>
            </a: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; Keep us on the Right Path ; The Path of those upon whom You have sent Favours; Not the Path of those with whom You are angry and also not of those who have gone astr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365720"/>
            <a:ext cx="3095640" cy="1584360"/>
          </a:xfrm>
          <a:prstGeom prst="cloudCallout">
            <a:avLst>
              <a:gd name="adj1" fmla="val 77694"/>
              <a:gd name="adj2" fmla="val -1605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  <a:ea typeface="Courier New"/>
              </a:rPr>
              <a:t>In the name of Allah the Most Kind, the Most Merciful; Say Allah is One; He needs nothing, but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Courier New"/>
              </a:rPr>
              <a:t>everything</a:t>
            </a:r>
            <a:r>
              <a:rPr b="0" lang="en-US" sz="1000" spc="-1" strike="noStrike">
                <a:solidFill>
                  <a:srgbClr val="ff3300"/>
                </a:solidFill>
                <a:latin typeface="Arial"/>
                <a:ea typeface="Courier New"/>
              </a:rPr>
              <a:t> else needs Him; He has no children and He has no parents; And there is none other equal to Him</a:t>
            </a:r>
            <a:r>
              <a:rPr b="0" i="1" lang="en-US" sz="1000" spc="-1" strike="noStrike">
                <a:solidFill>
                  <a:srgbClr val="ff33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1268280"/>
            <a:ext cx="83808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. QIRAAT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1125360"/>
            <a:ext cx="4724640" cy="457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  <a:ea typeface="Arial"/>
              </a:rPr>
              <a:t>YOU SHOULD THEN RECITE SURA AL-FATEHA AND ANY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  <a:ea typeface="Arial"/>
              </a:rPr>
              <a:t>SURA FROM THE QUR’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/>
          <p:nvPr/>
        </p:nvCxnSpPr>
        <p:spPr>
          <a:xfrm rot="5400000">
            <a:off x="2928600" y="5144040"/>
            <a:ext cx="2277360" cy="1151640"/>
          </a:xfrm>
          <a:prstGeom prst="bentConnector3">
            <a:avLst>
              <a:gd name="adj1" fmla="val 4999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/>
          <p:nvPr/>
        </p:nvCxnSpPr>
        <p:spPr>
          <a:xfrm flipH="1" flipV="1" rot="5400000">
            <a:off x="4395600" y="391320"/>
            <a:ext cx="2369160" cy="1585080"/>
          </a:xfrm>
          <a:prstGeom prst="bentConnector3">
            <a:avLst>
              <a:gd name="adj1" fmla="val 23176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9" name=""/>
          <p:cNvSpPr/>
          <p:nvPr/>
        </p:nvSpPr>
        <p:spPr>
          <a:xfrm flipH="1">
            <a:off x="5292720" y="4365720"/>
            <a:ext cx="3457440" cy="0"/>
          </a:xfrm>
          <a:prstGeom prst="line">
            <a:avLst/>
          </a:prstGeom>
          <a:ln w="9360">
            <a:solidFill>
              <a:srgbClr val="80008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95280" y="476280"/>
            <a:ext cx="524844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cademy Engraved LET"/>
              </a:rPr>
              <a:t>SALAAH RECITATIO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cademy Engraved LET"/>
              <a:ea typeface="Academy Engraved LET"/>
            </a:endParaRPr>
          </a:p>
        </p:txBody>
      </p:sp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7704000" y="0"/>
            <a:ext cx="144000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>
            <a:biLevel thresh="50000"/>
            <a:lum bright="-18000"/>
          </a:blip>
          <a:stretch/>
        </p:blipFill>
        <p:spPr>
          <a:xfrm>
            <a:off x="324000" y="1628640"/>
            <a:ext cx="514080" cy="2194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>
            <a:biLevel thresh="50000"/>
            <a:lum bright="-12000"/>
          </a:blip>
          <a:stretch/>
        </p:blipFill>
        <p:spPr>
          <a:xfrm>
            <a:off x="1187280" y="2852640"/>
            <a:ext cx="914400" cy="444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92360" y="1268280"/>
            <a:ext cx="2133360" cy="685800"/>
          </a:xfrm>
          <a:prstGeom prst="cloudCallout">
            <a:avLst>
              <a:gd name="adj1" fmla="val -86981"/>
              <a:gd name="adj2" fmla="val 21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Allah is Greater than anything or any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2781360"/>
            <a:ext cx="1371600" cy="685800"/>
          </a:xfrm>
          <a:prstGeom prst="wedgeEllipseCallout">
            <a:avLst>
              <a:gd name="adj1" fmla="val -51157"/>
              <a:gd name="adj2" fmla="val -122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>
            <a:biLevel thresh="50000"/>
            <a:lum bright="-18000"/>
          </a:blip>
          <a:stretch/>
        </p:blipFill>
        <p:spPr>
          <a:xfrm>
            <a:off x="4343400" y="19051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>
            <a:biLevel thresh="50000"/>
            <a:lum bright="-24000"/>
          </a:blip>
          <a:stretch/>
        </p:blipFill>
        <p:spPr>
          <a:xfrm>
            <a:off x="6012000" y="3500280"/>
            <a:ext cx="2247840" cy="362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5940360" y="3860640"/>
            <a:ext cx="2228760" cy="411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580000" y="3213000"/>
            <a:ext cx="3048120" cy="1219320"/>
          </a:xfrm>
          <a:prstGeom prst="wedgeEllipseCallout">
            <a:avLst>
              <a:gd name="adj1" fmla="val -63282"/>
              <a:gd name="adj2" fmla="val -104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08720" y="1844640"/>
            <a:ext cx="3352680" cy="990720"/>
          </a:xfrm>
          <a:prstGeom prst="cloudCallout">
            <a:avLst>
              <a:gd name="adj1" fmla="val -55541"/>
              <a:gd name="adj2" fmla="val 1057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Glory be to Allah, the Supreme, and all praise is for Him. O Allah, send your blessings to Prophet Muhammad and his famil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50920" y="1197000"/>
            <a:ext cx="76176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. QIYAM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419720" y="1752480"/>
            <a:ext cx="58104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. RUKU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6">
            <a:biLevel thresh="50000"/>
            <a:lum bright="-18000"/>
          </a:blip>
          <a:stretch/>
        </p:blipFill>
        <p:spPr>
          <a:xfrm>
            <a:off x="4427640" y="4437000"/>
            <a:ext cx="514080" cy="2193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5724360" y="5445000"/>
            <a:ext cx="1562400" cy="362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508720" y="5300640"/>
            <a:ext cx="1981080" cy="1066680"/>
          </a:xfrm>
          <a:prstGeom prst="wedgeEllipseCallout">
            <a:avLst>
              <a:gd name="adj1" fmla="val -80287"/>
              <a:gd name="adj2" fmla="val -86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8">
            <a:biLevel thresh="50000"/>
            <a:lum bright="-24000"/>
          </a:blip>
          <a:stretch/>
        </p:blipFill>
        <p:spPr>
          <a:xfrm>
            <a:off x="6084720" y="5805360"/>
            <a:ext cx="914400" cy="444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755640" y="4869000"/>
            <a:ext cx="6192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. QIYAM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cxnSp>
        <p:nvCxnSpPr>
          <p:cNvPr id="88" name=""/>
          <p:cNvCxnSpPr>
            <a:stCxn id="76" idx="2"/>
            <a:endCxn id="83" idx="0"/>
          </p:cNvCxnSpPr>
          <p:nvPr/>
        </p:nvCxnSpPr>
        <p:spPr>
          <a:xfrm rot="5400000">
            <a:off x="4276800" y="3836160"/>
            <a:ext cx="1008720" cy="194400"/>
          </a:xfrm>
          <a:prstGeom prst="bentConnector3">
            <a:avLst>
              <a:gd name="adj1" fmla="val 4991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83" idx="1"/>
          </p:cNvCxnSpPr>
          <p:nvPr/>
        </p:nvCxnSpPr>
        <p:spPr>
          <a:xfrm flipV="1" rot="10800000">
            <a:off x="3817080" y="5532840"/>
            <a:ext cx="610560" cy="13424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1403280" y="4581360"/>
            <a:ext cx="2210040" cy="1143000"/>
          </a:xfrm>
          <a:prstGeom prst="cloudCallout">
            <a:avLst>
              <a:gd name="adj1" fmla="val 69754"/>
              <a:gd name="adj2" fmla="val -273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Allah hears anyone who praises Him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Allah is Greater than anything or any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/>
          <p:nvPr/>
        </p:nvCxnSpPr>
        <p:spPr>
          <a:xfrm flipH="1" flipV="1" rot="5400000">
            <a:off x="417600" y="120960"/>
            <a:ext cx="1053360" cy="810360"/>
          </a:xfrm>
          <a:prstGeom prst="bentConnector3">
            <a:avLst>
              <a:gd name="adj1" fmla="val 49914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/>
          <p:nvPr/>
        </p:nvCxnSpPr>
        <p:spPr>
          <a:xfrm flipH="1" flipV="1" rot="5400000">
            <a:off x="2022840" y="1513440"/>
            <a:ext cx="869040" cy="3836160"/>
          </a:xfrm>
          <a:prstGeom prst="bentConnector4">
            <a:avLst>
              <a:gd name="adj1" fmla="val -26315"/>
              <a:gd name="adj2" fmla="val 5334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 txBox="1"/>
          <p:nvPr/>
        </p:nvSpPr>
        <p:spPr>
          <a:xfrm>
            <a:off x="1403280" y="476280"/>
            <a:ext cx="5248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cademy Engraved LET"/>
              </a:rPr>
              <a:t>SALAAH RECITATIO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cademy Engraved LET"/>
              <a:ea typeface="Academy Engraved LET"/>
            </a:endParaRPr>
          </a:p>
        </p:txBody>
      </p:sp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7704000" y="0"/>
            <a:ext cx="144000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>
            <a:biLevel thresh="50000"/>
            <a:lum bright="-18000"/>
          </a:blip>
          <a:stretch/>
        </p:blipFill>
        <p:spPr>
          <a:xfrm>
            <a:off x="900000" y="2205000"/>
            <a:ext cx="1714680" cy="1028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9280" y="3716280"/>
            <a:ext cx="2971800" cy="1295280"/>
          </a:xfrm>
          <a:prstGeom prst="wedgeEllipseCallout">
            <a:avLst>
              <a:gd name="adj1" fmla="val 22060"/>
              <a:gd name="adj2" fmla="val -911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>
            <a:biLevel thresh="50000"/>
            <a:lum bright="-24000"/>
          </a:blip>
          <a:stretch/>
        </p:blipFill>
        <p:spPr>
          <a:xfrm>
            <a:off x="380880" y="3962520"/>
            <a:ext cx="2133720" cy="399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>
            <a:biLevel thresh="50000"/>
            <a:lum bright="-24000"/>
          </a:blip>
          <a:stretch/>
        </p:blipFill>
        <p:spPr>
          <a:xfrm>
            <a:off x="228600" y="4343400"/>
            <a:ext cx="2525760" cy="411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68360" y="1341360"/>
            <a:ext cx="77148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. SAJDAH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114800" y="3581280"/>
            <a:ext cx="922320" cy="1379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867280" y="5105520"/>
            <a:ext cx="2743200" cy="1371600"/>
          </a:xfrm>
          <a:prstGeom prst="wedgeEllipseCallout">
            <a:avLst>
              <a:gd name="adj1" fmla="val -83162"/>
              <a:gd name="adj2" fmla="val -1281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5">
            <a:biLevel thresh="50000"/>
            <a:lum bright="-24000"/>
          </a:blip>
          <a:stretch/>
        </p:blipFill>
        <p:spPr>
          <a:xfrm>
            <a:off x="6248520" y="5562720"/>
            <a:ext cx="2038320" cy="438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>
            <a:biLevel thresh="50000"/>
            <a:lum bright="-18000"/>
          </a:blip>
          <a:stretch/>
        </p:blipFill>
        <p:spPr>
          <a:xfrm>
            <a:off x="6781680" y="5181480"/>
            <a:ext cx="914400" cy="444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>
            <a:biLevel thresh="50000"/>
            <a:lum bright="-24000"/>
          </a:blip>
          <a:stretch/>
        </p:blipFill>
        <p:spPr>
          <a:xfrm>
            <a:off x="6781680" y="6019920"/>
            <a:ext cx="914400" cy="380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191120" y="3352680"/>
            <a:ext cx="76176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. JULOO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cxnSp>
        <p:nvCxnSpPr>
          <p:cNvPr id="106" name=""/>
          <p:cNvCxnSpPr>
            <a:stCxn id="95" idx="3"/>
          </p:cNvCxnSpPr>
          <p:nvPr/>
        </p:nvCxnSpPr>
        <p:spPr>
          <a:xfrm>
            <a:off x="2614320" y="2719440"/>
            <a:ext cx="1639080" cy="14673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/>
          <p:nvPr/>
        </p:nvCxnSpPr>
        <p:spPr>
          <a:xfrm flipH="1" rot="16200000">
            <a:off x="-772560" y="1095120"/>
            <a:ext cx="2724840" cy="53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0" idx="2"/>
          </p:cNvCxnSpPr>
          <p:nvPr/>
        </p:nvCxnSpPr>
        <p:spPr>
          <a:xfrm flipH="1" rot="16200000">
            <a:off x="4268520" y="5267880"/>
            <a:ext cx="1897920" cy="1283400"/>
          </a:xfrm>
          <a:prstGeom prst="bentConnector3">
            <a:avLst>
              <a:gd name="adj1" fmla="val 6082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3492360" y="1268280"/>
            <a:ext cx="3048120" cy="1067040"/>
          </a:xfrm>
          <a:prstGeom prst="cloudCallout">
            <a:avLst>
              <a:gd name="adj1" fmla="val -87814"/>
              <a:gd name="adj2" fmla="val 1159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Glory be to Allah the Most High and all praise is for H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O Allah, send your blessings to Prophet Muhammad and his famil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2743200"/>
            <a:ext cx="2971800" cy="1295280"/>
          </a:xfrm>
          <a:prstGeom prst="cloudCallout">
            <a:avLst>
              <a:gd name="adj1" fmla="val -77990"/>
              <a:gd name="adj2" fmla="val 291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Allah is greater then anything or anyone; I seek forgiveness from Allah, my Lord, and turn to Him in repentance; Allah is greater then anything or any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55640" y="404640"/>
            <a:ext cx="5248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cademy Engraved LET"/>
              </a:rPr>
              <a:t>SALAAH RECITATIO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cademy Engraved LET"/>
              <a:ea typeface="Academy Engraved LET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7704000" y="0"/>
            <a:ext cx="144000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8080" y="4191120"/>
            <a:ext cx="305748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. SIT FOR A MOMENT THEN RISE SAYING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5257800"/>
            <a:ext cx="2666880" cy="990720"/>
          </a:xfrm>
          <a:prstGeom prst="wedgeEllipseCallout">
            <a:avLst>
              <a:gd name="adj1" fmla="val -46847"/>
              <a:gd name="adj2" fmla="val -966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733920" y="4419720"/>
          <a:ext cx="76176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4419720"/>
                    <a:ext cx="7617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" descr=""/>
          <p:cNvPicPr/>
          <p:nvPr/>
        </p:nvPicPr>
        <p:blipFill>
          <a:blip r:embed="rId3">
            <a:biLevel thresh="50000"/>
            <a:lum bright="-24000"/>
          </a:blip>
          <a:stretch/>
        </p:blipFill>
        <p:spPr>
          <a:xfrm>
            <a:off x="4572000" y="5486400"/>
            <a:ext cx="2257560" cy="438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>
            <a:biLevel thresh="50000"/>
            <a:lum bright="-12000"/>
          </a:blip>
          <a:stretch/>
        </p:blipFill>
        <p:spPr>
          <a:xfrm>
            <a:off x="685800" y="2209680"/>
            <a:ext cx="1714680" cy="1028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211640" y="2276640"/>
            <a:ext cx="2971800" cy="1368360"/>
          </a:xfrm>
          <a:prstGeom prst="wedgeEllipseCallout">
            <a:avLst>
              <a:gd name="adj1" fmla="val -116935"/>
              <a:gd name="adj2" fmla="val 110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>
            <a:biLevel thresh="50000"/>
            <a:lum bright="-30000"/>
          </a:blip>
          <a:stretch/>
        </p:blipFill>
        <p:spPr>
          <a:xfrm>
            <a:off x="4572000" y="2565360"/>
            <a:ext cx="2133720" cy="399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>
            <a:biLevel thresh="50000"/>
            <a:lum bright="-24000"/>
          </a:blip>
          <a:stretch/>
        </p:blipFill>
        <p:spPr>
          <a:xfrm>
            <a:off x="4356000" y="2924280"/>
            <a:ext cx="2525760" cy="411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324000" y="1268280"/>
            <a:ext cx="105696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. 2nd SAJDAH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cxnSp>
        <p:nvCxnSpPr>
          <p:cNvPr id="123" name=""/>
          <p:cNvCxnSpPr>
            <a:endCxn id="118" idx="1"/>
          </p:cNvCxnSpPr>
          <p:nvPr/>
        </p:nvCxnSpPr>
        <p:spPr>
          <a:xfrm flipH="1" rot="16200000">
            <a:off x="-943200" y="1094760"/>
            <a:ext cx="2724840" cy="534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990720" y="4648320"/>
            <a:ext cx="2590560" cy="838080"/>
          </a:xfrm>
          <a:prstGeom prst="cloudCallout">
            <a:avLst>
              <a:gd name="adj1" fmla="val 56740"/>
              <a:gd name="adj2" fmla="val -551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Times New Roman"/>
              </a:rPr>
              <a:t>Due to the vigor given by Allah and because of the vitality from Him I rise and stan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68360" y="1125360"/>
            <a:ext cx="3048120" cy="1067040"/>
          </a:xfrm>
          <a:prstGeom prst="cloudCallout">
            <a:avLst>
              <a:gd name="adj1" fmla="val -45833"/>
              <a:gd name="adj2" fmla="val 1038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Glory be to Allah the Most High and all praise is for H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O Allah, send your blessings to Prophet Muhammad and his famil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18" idx="2"/>
          </p:cNvCxnSpPr>
          <p:nvPr/>
        </p:nvCxnSpPr>
        <p:spPr>
          <a:xfrm flipH="1" rot="16200000">
            <a:off x="2238120" y="2542680"/>
            <a:ext cx="1181880" cy="2572560"/>
          </a:xfrm>
          <a:prstGeom prst="bentConnector3">
            <a:avLst>
              <a:gd name="adj1" fmla="val 1611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/>
          <p:nvPr/>
        </p:nvCxnSpPr>
        <p:spPr>
          <a:xfrm rot="5400000">
            <a:off x="2733120" y="5476680"/>
            <a:ext cx="1772280" cy="99144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 txBox="1"/>
          <p:nvPr/>
        </p:nvSpPr>
        <p:spPr>
          <a:xfrm>
            <a:off x="539640" y="476280"/>
            <a:ext cx="5248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cademy Engraved LET"/>
              </a:rPr>
              <a:t>SALAAH RECITATIO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cademy Engraved LET"/>
              <a:ea typeface="Academy Engraved LET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7704000" y="0"/>
            <a:ext cx="144000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564000" y="1197000"/>
            <a:ext cx="17143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SECOND RAKAA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56000" y="981000"/>
            <a:ext cx="3713040" cy="606600"/>
          </a:xfrm>
          <a:custGeom>
            <a:avLst/>
            <a:gdLst>
              <a:gd name="textAreaLeft" fmla="*/ 928080 w 3713040"/>
              <a:gd name="textAreaRight" fmla="*/ 2784960 w 3713040"/>
              <a:gd name="textAreaTop" fmla="*/ 75600 h 606600"/>
              <a:gd name="textAreaBottom" fmla="*/ 606960 h 60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>
            <a:biLevel thresh="50000"/>
            <a:lum bright="-12000"/>
          </a:blip>
          <a:stretch/>
        </p:blipFill>
        <p:spPr>
          <a:xfrm>
            <a:off x="4211640" y="3141720"/>
            <a:ext cx="514440" cy="2193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5940360" y="2421000"/>
          <a:ext cx="2851200" cy="198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2421000"/>
                    <a:ext cx="2851200" cy="19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5791320" y="2133720"/>
            <a:ext cx="3047760" cy="4103640"/>
          </a:xfrm>
          <a:prstGeom prst="wedgeRoundRectCallout">
            <a:avLst>
              <a:gd name="adj1" fmla="val -85675"/>
              <a:gd name="adj2" fmla="val -1502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940360" y="4653000"/>
          <a:ext cx="2714760" cy="1297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940360" y="4653000"/>
                    <a:ext cx="271476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0" y="2209680"/>
            <a:ext cx="3505320" cy="2210040"/>
          </a:xfrm>
          <a:prstGeom prst="cloudCallout">
            <a:avLst>
              <a:gd name="adj1" fmla="val 73731"/>
              <a:gd name="adj2" fmla="val -73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In the name of Allah the Most Kind, the Most Merciful; All Praise is to Allah; The Kind, The Merciful; Master of the Day of Judgement ; You alone we serve &amp; You alone we ask for Help; Keep us on the Right Path ; The Path of those upon whom You have sent Favours; Not the Path of those with whom You are angry and also not of those who have gone astr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4653000"/>
            <a:ext cx="3505320" cy="1371600"/>
          </a:xfrm>
          <a:prstGeom prst="cloudCallout">
            <a:avLst>
              <a:gd name="adj1" fmla="val 57199"/>
              <a:gd name="adj2" fmla="val -140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Courier New"/>
              </a:rPr>
              <a:t>In the name of Allah the Most Kind, the Most Merciful; Say Allah is One; He needs nothing, but everything else needs Him; He has no children and He has no parents; And there is none other equal to Him</a:t>
            </a:r>
            <a:r>
              <a:rPr b="0" i="1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8600" y="1752480"/>
            <a:ext cx="83808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1. QIRAAT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1676520"/>
            <a:ext cx="3124080" cy="457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  <a:ea typeface="Arial"/>
              </a:rPr>
              <a:t>YOU SHOULD THEN REC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  <a:ea typeface="Arial"/>
              </a:rPr>
              <a:t>SURA AL-FATEHA AND SURA IKH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2" idx="2"/>
          </p:cNvCxnSpPr>
          <p:nvPr/>
        </p:nvCxnSpPr>
        <p:spPr>
          <a:xfrm rot="5400000">
            <a:off x="3132720" y="5478840"/>
            <a:ext cx="1478880" cy="1192320"/>
          </a:xfrm>
          <a:prstGeom prst="bentConnector3">
            <a:avLst>
              <a:gd name="adj1" fmla="val 4993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2" idx="0"/>
          </p:cNvCxnSpPr>
          <p:nvPr/>
        </p:nvCxnSpPr>
        <p:spPr>
          <a:xfrm flipH="1" flipV="1" rot="5400000">
            <a:off x="3921480" y="546120"/>
            <a:ext cx="3142440" cy="2048760"/>
          </a:xfrm>
          <a:prstGeom prst="bentConnector3">
            <a:avLst>
              <a:gd name="adj1" fmla="val 36824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4" name=""/>
          <p:cNvSpPr txBox="1"/>
          <p:nvPr/>
        </p:nvSpPr>
        <p:spPr>
          <a:xfrm>
            <a:off x="539640" y="404640"/>
            <a:ext cx="5248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cademy Engraved LET"/>
              </a:rPr>
              <a:t>SALAAH RECITATIO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cademy Engraved LET"/>
              <a:ea typeface="Academy Engraved LET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4508640"/>
            <a:ext cx="3024000" cy="0"/>
          </a:xfrm>
          <a:prstGeom prst="line">
            <a:avLst/>
          </a:prstGeom>
          <a:ln w="9360">
            <a:solidFill>
              <a:srgbClr val="80008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7775640" y="0"/>
            <a:ext cx="136836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514440" cy="2193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>
            <a:biLevel thresh="50000"/>
            <a:lum bright="-18000"/>
          </a:blip>
          <a:stretch/>
        </p:blipFill>
        <p:spPr>
          <a:xfrm>
            <a:off x="1042920" y="2276640"/>
            <a:ext cx="914400" cy="444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143000" y="990720"/>
            <a:ext cx="2133720" cy="685800"/>
          </a:xfrm>
          <a:prstGeom prst="cloudCallout">
            <a:avLst>
              <a:gd name="adj1" fmla="val -73736"/>
              <a:gd name="adj2" fmla="val 152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Allah is greater than anything or any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2205000"/>
            <a:ext cx="1371600" cy="685800"/>
          </a:xfrm>
          <a:prstGeom prst="wedgeEllipseCallout">
            <a:avLst>
              <a:gd name="adj1" fmla="val -66435"/>
              <a:gd name="adj2" fmla="val -1136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>
            <a:biLevel thresh="50000"/>
            <a:lum bright="-24000"/>
          </a:blip>
          <a:stretch/>
        </p:blipFill>
        <p:spPr>
          <a:xfrm>
            <a:off x="2771640" y="4653000"/>
            <a:ext cx="1070280" cy="1523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>
            <a:biLevel thresh="50000"/>
            <a:lum bright="-30000"/>
          </a:blip>
          <a:stretch/>
        </p:blipFill>
        <p:spPr>
          <a:xfrm>
            <a:off x="4572000" y="5589720"/>
            <a:ext cx="2247840" cy="361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>
            <a:biLevel thresh="50000"/>
            <a:lum bright="-18000"/>
          </a:blip>
          <a:stretch/>
        </p:blipFill>
        <p:spPr>
          <a:xfrm>
            <a:off x="4427640" y="5877000"/>
            <a:ext cx="2525760" cy="411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211640" y="5373720"/>
            <a:ext cx="3048120" cy="1066680"/>
          </a:xfrm>
          <a:prstGeom prst="wedgeEllipseCallout">
            <a:avLst>
              <a:gd name="adj1" fmla="val -63125"/>
              <a:gd name="adj2" fmla="val -720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4221000"/>
            <a:ext cx="2286000" cy="1447920"/>
          </a:xfrm>
          <a:prstGeom prst="cloudCallout">
            <a:avLst>
              <a:gd name="adj1" fmla="val 78958"/>
              <a:gd name="adj2" fmla="val -158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Glory be to Allah, the Supreme, and all praise is for Him. O Allah, send your blessings to Prophet Muhammad and his famil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52280" y="457200"/>
            <a:ext cx="76212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. QIYAM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627280" y="4149720"/>
            <a:ext cx="58104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4. RUKU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cxnSp>
        <p:nvCxnSpPr>
          <p:cNvPr id="158" name=""/>
          <p:cNvCxnSpPr>
            <a:stCxn id="147" idx="0"/>
          </p:cNvCxnSpPr>
          <p:nvPr/>
        </p:nvCxnSpPr>
        <p:spPr>
          <a:xfrm flipH="1" flipV="1" rot="5400000">
            <a:off x="121680" y="288360"/>
            <a:ext cx="1296000" cy="810360"/>
          </a:xfrm>
          <a:prstGeom prst="bentConnector3">
            <a:avLst>
              <a:gd name="adj1" fmla="val 30619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4029120" y="244800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6">
            <a:biLevel thresh="50000"/>
            <a:lum bright="-42000"/>
          </a:blip>
          <a:stretch/>
        </p:blipFill>
        <p:spPr>
          <a:xfrm>
            <a:off x="4067280" y="1268280"/>
            <a:ext cx="927000" cy="16765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4211640" y="1052640"/>
            <a:ext cx="76212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3. QUNOOT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16360" y="2852640"/>
            <a:ext cx="3095640" cy="1427400"/>
          </a:xfrm>
          <a:prstGeom prst="wedgeEllipseCallout">
            <a:avLst>
              <a:gd name="adj1" fmla="val -50305"/>
              <a:gd name="adj2" fmla="val -128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56360" y="1700280"/>
            <a:ext cx="2514600" cy="1066680"/>
          </a:xfrm>
          <a:prstGeom prst="cloudCallout">
            <a:avLst>
              <a:gd name="adj1" fmla="val -107199"/>
              <a:gd name="adj2" fmla="val -668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O our Lord! Bestow upon us good in this world and good in the Hereafter, and protect us from the torment of the f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7">
            <a:biLevel thresh="50000"/>
            <a:lum bright="-30000"/>
          </a:blip>
          <a:stretch/>
        </p:blipFill>
        <p:spPr>
          <a:xfrm>
            <a:off x="4932360" y="3284640"/>
            <a:ext cx="2575080" cy="707760"/>
          </a:xfrm>
          <a:prstGeom prst="rect">
            <a:avLst/>
          </a:prstGeom>
          <a:ln w="0">
            <a:noFill/>
          </a:ln>
        </p:spPr>
      </p:pic>
      <p:cxnSp>
        <p:nvCxnSpPr>
          <p:cNvPr id="165" name=""/>
          <p:cNvCxnSpPr>
            <a:stCxn id="147" idx="2"/>
            <a:endCxn id="160" idx="1"/>
          </p:cNvCxnSpPr>
          <p:nvPr/>
        </p:nvCxnSpPr>
        <p:spPr>
          <a:xfrm flipH="1" flipV="1" rot="5400000">
            <a:off x="1501560" y="969480"/>
            <a:ext cx="1429200" cy="3702960"/>
          </a:xfrm>
          <a:prstGeom prst="bentConnector4">
            <a:avLst>
              <a:gd name="adj1" fmla="val -15998"/>
              <a:gd name="adj2" fmla="val 5346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60" idx="2"/>
            <a:endCxn id="151" idx="0"/>
          </p:cNvCxnSpPr>
          <p:nvPr/>
        </p:nvCxnSpPr>
        <p:spPr>
          <a:xfrm rot="5400000">
            <a:off x="3063960" y="3186720"/>
            <a:ext cx="1708920" cy="12247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51" idx="2"/>
          </p:cNvCxnSpPr>
          <p:nvPr/>
        </p:nvCxnSpPr>
        <p:spPr>
          <a:xfrm rot="5400000">
            <a:off x="2847960" y="6404400"/>
            <a:ext cx="686520" cy="2307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"/>
          <p:cNvSpPr txBox="1"/>
          <p:nvPr/>
        </p:nvSpPr>
        <p:spPr>
          <a:xfrm>
            <a:off x="1403280" y="333360"/>
            <a:ext cx="524844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cademy Engraved LET"/>
              </a:rPr>
              <a:t>SALAAH RECITATIO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cademy Engraved LET"/>
              <a:ea typeface="Academy Engraved LET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7775640" y="0"/>
            <a:ext cx="136836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>
            <a:biLevel thresh="50000"/>
            <a:lum bright="-18000"/>
          </a:blip>
          <a:stretch/>
        </p:blipFill>
        <p:spPr>
          <a:xfrm>
            <a:off x="755640" y="836640"/>
            <a:ext cx="514440" cy="21938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>
            <a:biLevel thresh="50000"/>
            <a:lum bright="-18000"/>
          </a:blip>
          <a:stretch/>
        </p:blipFill>
        <p:spPr>
          <a:xfrm>
            <a:off x="2195640" y="2349360"/>
            <a:ext cx="1562040" cy="3621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050920" y="2133720"/>
            <a:ext cx="1981440" cy="1150920"/>
          </a:xfrm>
          <a:prstGeom prst="wedgeEllipseCallout">
            <a:avLst>
              <a:gd name="adj1" fmla="val -86055"/>
              <a:gd name="adj2" fmla="val -10862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>
            <a:biLevel thresh="50000"/>
            <a:lum bright="-18000"/>
          </a:blip>
          <a:stretch/>
        </p:blipFill>
        <p:spPr>
          <a:xfrm>
            <a:off x="2556000" y="2708280"/>
            <a:ext cx="914400" cy="4446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755640" y="620640"/>
            <a:ext cx="6192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5. QIYAM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19640" y="1268280"/>
            <a:ext cx="2057400" cy="990720"/>
          </a:xfrm>
          <a:prstGeom prst="cloudCallout">
            <a:avLst>
              <a:gd name="adj1" fmla="val -148763"/>
              <a:gd name="adj2" fmla="val -466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Allah hears anyone who praises Him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Allah is greater than anything or any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4">
            <a:biLevel thresh="50000"/>
            <a:lum bright="-18000"/>
          </a:blip>
          <a:stretch/>
        </p:blipFill>
        <p:spPr>
          <a:xfrm>
            <a:off x="2484360" y="4797360"/>
            <a:ext cx="1714680" cy="10288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148360" y="5229360"/>
            <a:ext cx="3124080" cy="1295280"/>
          </a:xfrm>
          <a:prstGeom prst="wedgeEllipseCallout">
            <a:avLst>
              <a:gd name="adj1" fmla="val -82416"/>
              <a:gd name="adj2" fmla="val -153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5">
            <a:biLevel thresh="50000"/>
            <a:lum bright="-18000"/>
          </a:blip>
          <a:stretch/>
        </p:blipFill>
        <p:spPr>
          <a:xfrm>
            <a:off x="5724360" y="5445000"/>
            <a:ext cx="2133720" cy="4003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>
            <a:biLevel thresh="50000"/>
            <a:lum bright="-24000"/>
          </a:blip>
          <a:stretch/>
        </p:blipFill>
        <p:spPr>
          <a:xfrm>
            <a:off x="5435640" y="5877000"/>
            <a:ext cx="2525760" cy="411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2916360" y="4365720"/>
            <a:ext cx="105732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6. SAJDAH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64000" y="3716280"/>
            <a:ext cx="3048120" cy="1066680"/>
          </a:xfrm>
          <a:prstGeom prst="cloudCallout">
            <a:avLst>
              <a:gd name="adj1" fmla="val -91773"/>
              <a:gd name="adj2" fmla="val 952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Glory be to Allah the Most High and all praise is for H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O Allah, send your blessings to Prophet Muhammad and his famil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70" idx="2"/>
            <a:endCxn id="176" idx="1"/>
          </p:cNvCxnSpPr>
          <p:nvPr/>
        </p:nvCxnSpPr>
        <p:spPr>
          <a:xfrm flipH="1" rot="16200000">
            <a:off x="607680" y="3434760"/>
            <a:ext cx="2282040" cy="147240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/>
          <p:nvPr/>
        </p:nvCxnSpPr>
        <p:spPr>
          <a:xfrm rot="5400000">
            <a:off x="2654280" y="6138000"/>
            <a:ext cx="1053360" cy="388080"/>
          </a:xfrm>
          <a:prstGeom prst="bentConnector3">
            <a:avLst>
              <a:gd name="adj1" fmla="val 4991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endCxn id="170" idx="1"/>
          </p:cNvCxnSpPr>
          <p:nvPr/>
        </p:nvCxnSpPr>
        <p:spPr>
          <a:xfrm flipH="1" rot="16200000">
            <a:off x="-327240" y="851400"/>
            <a:ext cx="1935720" cy="2293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 txBox="1"/>
          <p:nvPr/>
        </p:nvSpPr>
        <p:spPr>
          <a:xfrm>
            <a:off x="1692360" y="333360"/>
            <a:ext cx="5248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cademy Engraved LET"/>
              </a:rPr>
              <a:t>SALAAH RECITATIO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cademy Engraved LET"/>
              <a:ea typeface="Academy Engraved LET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7"/>
          <a:stretch/>
        </p:blipFill>
        <p:spPr>
          <a:xfrm>
            <a:off x="7777080" y="0"/>
            <a:ext cx="136692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>
            <a:biLevel thresh="50000"/>
            <a:lum bright="-18000"/>
          </a:blip>
          <a:stretch/>
        </p:blipFill>
        <p:spPr>
          <a:xfrm>
            <a:off x="2666880" y="4114800"/>
            <a:ext cx="1714680" cy="10288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564000" y="5300640"/>
            <a:ext cx="3124080" cy="1295280"/>
          </a:xfrm>
          <a:prstGeom prst="wedgeEllipseCallout">
            <a:avLst>
              <a:gd name="adj1" fmla="val -34046"/>
              <a:gd name="adj2" fmla="val -713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>
            <a:biLevel thresh="50000"/>
            <a:lum bright="-24000"/>
          </a:blip>
          <a:stretch/>
        </p:blipFill>
        <p:spPr>
          <a:xfrm>
            <a:off x="4067280" y="5516640"/>
            <a:ext cx="2133360" cy="3999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>
            <a:biLevel thresh="50000"/>
            <a:lum bright="-18000"/>
          </a:blip>
          <a:stretch/>
        </p:blipFill>
        <p:spPr>
          <a:xfrm>
            <a:off x="3780000" y="5950080"/>
            <a:ext cx="2525400" cy="4111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2666880" y="3962520"/>
            <a:ext cx="11052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.2nd SAJDAH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>
            <a:biLevel thresh="50000"/>
            <a:lum bright="-18000"/>
          </a:blip>
          <a:stretch/>
        </p:blipFill>
        <p:spPr>
          <a:xfrm>
            <a:off x="228600" y="914400"/>
            <a:ext cx="922320" cy="13795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143000" y="1828800"/>
            <a:ext cx="2743200" cy="1371600"/>
          </a:xfrm>
          <a:prstGeom prst="wedgeEllipseCallout">
            <a:avLst>
              <a:gd name="adj1" fmla="val -53125"/>
              <a:gd name="adj2" fmla="val -827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5">
            <a:biLevel thresh="50000"/>
            <a:lum bright="-18000"/>
          </a:blip>
          <a:stretch/>
        </p:blipFill>
        <p:spPr>
          <a:xfrm>
            <a:off x="1447920" y="2286000"/>
            <a:ext cx="2038320" cy="4381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>
            <a:biLevel thresh="50000"/>
            <a:lum bright="-18000"/>
          </a:blip>
          <a:stretch/>
        </p:blipFill>
        <p:spPr>
          <a:xfrm>
            <a:off x="2057400" y="1905120"/>
            <a:ext cx="914400" cy="4442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>
            <a:biLevel thresh="50000"/>
            <a:lum bright="-18000"/>
          </a:blip>
          <a:stretch/>
        </p:blipFill>
        <p:spPr>
          <a:xfrm>
            <a:off x="1981080" y="2743200"/>
            <a:ext cx="914400" cy="3808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228600" y="685800"/>
            <a:ext cx="76212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7. JULOO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3933720"/>
            <a:ext cx="3048120" cy="1067040"/>
          </a:xfrm>
          <a:prstGeom prst="cloudCallout">
            <a:avLst>
              <a:gd name="adj1" fmla="val -97916"/>
              <a:gd name="adj2" fmla="val 127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Glory be to Allah the Most High and all Praise is for H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O Allah, send Your blessings to Prophet Muhammad and his famil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33920" y="1219320"/>
            <a:ext cx="2971800" cy="1295280"/>
          </a:xfrm>
          <a:prstGeom prst="cloudCallout">
            <a:avLst>
              <a:gd name="adj1" fmla="val -137018"/>
              <a:gd name="adj2" fmla="val -39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Allah is Greater then anything or anyone; I seek forgiveness from Allah, my Lord, and turn to Him in repentance; Allah is Greater then anything or any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2" idx="2"/>
            <a:endCxn id="187" idx="1"/>
          </p:cNvCxnSpPr>
          <p:nvPr/>
        </p:nvCxnSpPr>
        <p:spPr>
          <a:xfrm flipH="1" rot="16200000">
            <a:off x="511200" y="2472480"/>
            <a:ext cx="2335680" cy="19771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87" idx="2"/>
          </p:cNvCxnSpPr>
          <p:nvPr/>
        </p:nvCxnSpPr>
        <p:spPr>
          <a:xfrm rot="5400000">
            <a:off x="2009160" y="5343480"/>
            <a:ext cx="1715040" cy="1315440"/>
          </a:xfrm>
          <a:prstGeom prst="bentConnector3">
            <a:avLst>
              <a:gd name="adj1" fmla="val 2145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/>
          <p:nvPr/>
        </p:nvCxnSpPr>
        <p:spPr>
          <a:xfrm flipH="1" rot="16200000">
            <a:off x="-536760" y="687960"/>
            <a:ext cx="1605600" cy="2293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 txBox="1"/>
          <p:nvPr/>
        </p:nvSpPr>
        <p:spPr>
          <a:xfrm>
            <a:off x="1258920" y="404640"/>
            <a:ext cx="5248080" cy="43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cademy Engraved LET"/>
              </a:rPr>
              <a:t>SALAAH RECITATIO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cademy Engraved LET"/>
              <a:ea typeface="Academy Engraved LET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7775640" y="0"/>
            <a:ext cx="136836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09:39:07Z</dcterms:created>
  <dc:creator>Unknown User</dc:creator>
  <dc:description/>
  <dc:language>en-US</dc:language>
  <cp:lastModifiedBy>Sadiqa</cp:lastModifiedBy>
  <dcterms:modified xsi:type="dcterms:W3CDTF">2003-04-21T21:03:40Z</dcterms:modified>
  <cp:revision>19</cp:revision>
  <dc:subject/>
  <dc:title>SALAAH RECITATION</dc:title>
</cp:coreProperties>
</file>