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C41-DBFA-488B-B014-DE3AA7E3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A24-FA61-417B-917B-7A445AE0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C12-2840-41DB-A545-D07DE3E8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D1B-BDC7-4860-834E-F0D84E77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680-CE67-4209-B3D0-4C33756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C40-EA00-4BB8-9179-02DDC19A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6BE-5979-4F8E-A0D5-0517D0B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EBD-CDEE-4F95-8E64-906DB094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FCF-CB79-49AB-864F-A7D7D27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37C-0B0B-4F17-B2FF-D1EDECD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9FA-63C1-4F2E-8EF5-E2C1AB4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B3E-394F-4D40-BAA5-2099499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991-C180-481D-A569-841038F0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58280" y="0"/>
            <a:ext cx="1485720" cy="112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228600"/>
            <a:ext cx="6172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SALAAT - E - EID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  <a:ea typeface="Times New Roman"/>
              </a:rPr>
              <a:t>SPECIAL PRAYERS OFFERED ON 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Arial"/>
                <a:ea typeface="Times New Roman"/>
              </a:rPr>
              <a:t>EID-UL-FITR &amp; EID-UL-HA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133720"/>
            <a:ext cx="251460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37" y="1664"/>
                  <a:pt x="9273" y="5080"/>
                  <a:pt x="9273" y="10800"/>
                </a:cubicBezTo>
                <a:cubicBezTo>
                  <a:pt x="9273" y="16520"/>
                  <a:pt x="15437" y="19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557360"/>
            <a:ext cx="1905120" cy="1752480"/>
          </a:xfrm>
          <a:prstGeom prst="star5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N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800600"/>
            <a:ext cx="1905120" cy="1752480"/>
          </a:xfrm>
          <a:prstGeom prst="star5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A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JAM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8120"/>
            <a:ext cx="1905120" cy="1752480"/>
          </a:xfrm>
          <a:prstGeom prst="star5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NRISE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HO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572000"/>
            <a:ext cx="1904760" cy="1752480"/>
          </a:xfrm>
          <a:prstGeom prst="star5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JIB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– E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Y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905120"/>
            <a:ext cx="1905120" cy="1752480"/>
          </a:xfrm>
          <a:prstGeom prst="star5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J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KHYI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56360" y="458136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057400" y="167652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001000" y="3581280"/>
            <a:ext cx="514440" cy="219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148360" y="162864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62920" y="1981080"/>
            <a:ext cx="171432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33520" y="5029200"/>
            <a:ext cx="9223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195640" y="5084640"/>
            <a:ext cx="158436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658280" y="0"/>
            <a:ext cx="1485720" cy="11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>
            <a:biLevel thresh="50000"/>
            <a:lum bright="-36000"/>
          </a:blip>
          <a:stretch/>
        </p:blipFill>
        <p:spPr>
          <a:xfrm>
            <a:off x="3492360" y="1484280"/>
            <a:ext cx="92736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600" y="3429000"/>
            <a:ext cx="1085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NIYYA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35280" y="2852640"/>
            <a:ext cx="11556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ST RAKAA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QIRA'A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92360" y="2349360"/>
            <a:ext cx="102240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SPECIAL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QUNOO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3640" y="2637000"/>
            <a:ext cx="9716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RUK'U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164360" y="2637000"/>
            <a:ext cx="11527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SAJDAH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5373720"/>
            <a:ext cx="13906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TASHAHUD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&amp;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SALAAM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95640" y="5734080"/>
            <a:ext cx="10303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SAJDAH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24720" y="4365720"/>
            <a:ext cx="122724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ND RAKAA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QIRA'A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1905120" cy="733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ITE SURATUL HAMD &amp; SURATUL A’LA [NO. 8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8360" y="5867280"/>
            <a:ext cx="2043360" cy="733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ITE SURATUL HAMD &amp; SURATUL SHAMS [NO. 9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05120"/>
            <a:ext cx="455760" cy="37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772400" y="5373360"/>
            <a:ext cx="255600" cy="49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1" idx="3"/>
          </p:cNvCxnSpPr>
          <p:nvPr/>
        </p:nvCxnSpPr>
        <p:spPr>
          <a:xfrm>
            <a:off x="894960" y="3153960"/>
            <a:ext cx="1391040" cy="732600"/>
          </a:xfrm>
          <a:prstGeom prst="bentConnector3">
            <a:avLst>
              <a:gd name="adj1" fmla="val 56406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3"/>
            <a:endCxn id="59" idx="2"/>
          </p:cNvCxnSpPr>
          <p:nvPr/>
        </p:nvCxnSpPr>
        <p:spPr>
          <a:xfrm>
            <a:off x="2571480" y="2773440"/>
            <a:ext cx="1384920" cy="388080"/>
          </a:xfrm>
          <a:prstGeom prst="bentConnector4">
            <a:avLst>
              <a:gd name="adj1" fmla="val 33229"/>
              <a:gd name="adj2" fmla="val 15896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9" idx="3"/>
            <a:endCxn id="54" idx="2"/>
          </p:cNvCxnSpPr>
          <p:nvPr/>
        </p:nvCxnSpPr>
        <p:spPr>
          <a:xfrm>
            <a:off x="4419720" y="2322000"/>
            <a:ext cx="1264320" cy="831240"/>
          </a:xfrm>
          <a:prstGeom prst="bentConnector4">
            <a:avLst>
              <a:gd name="adj1" fmla="val 28766"/>
              <a:gd name="adj2" fmla="val 127512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4" idx="3"/>
            <a:endCxn id="55" idx="0"/>
          </p:cNvCxnSpPr>
          <p:nvPr/>
        </p:nvCxnSpPr>
        <p:spPr>
          <a:xfrm flipV="1">
            <a:off x="6217920" y="1980720"/>
            <a:ext cx="1802520" cy="410400"/>
          </a:xfrm>
          <a:prstGeom prst="bentConnector4">
            <a:avLst>
              <a:gd name="adj1" fmla="val 26148"/>
              <a:gd name="adj2" fmla="val 15575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5" idx="3"/>
            <a:endCxn id="67" idx="0"/>
          </p:cNvCxnSpPr>
          <p:nvPr/>
        </p:nvCxnSpPr>
        <p:spPr>
          <a:xfrm flipH="1">
            <a:off x="8751600" y="2495520"/>
            <a:ext cx="126000" cy="2108880"/>
          </a:xfrm>
          <a:prstGeom prst="bentConnector3">
            <a:avLst>
              <a:gd name="adj1" fmla="val -182234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3" idx="0"/>
            <a:endCxn id="50" idx="0"/>
          </p:cNvCxnSpPr>
          <p:nvPr/>
        </p:nvCxnSpPr>
        <p:spPr>
          <a:xfrm rot="5400000">
            <a:off x="6973920" y="3297960"/>
            <a:ext cx="1000800" cy="1567440"/>
          </a:xfrm>
          <a:prstGeom prst="bentConnector3">
            <a:avLst>
              <a:gd name="adj1" fmla="val -22849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rot="10800000">
            <a:off x="5147640" y="4365000"/>
            <a:ext cx="984960" cy="838800"/>
          </a:xfrm>
          <a:prstGeom prst="bentConnector4">
            <a:avLst>
              <a:gd name="adj1" fmla="val 26435"/>
              <a:gd name="adj2" fmla="val 15015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 rot="10800000">
            <a:off x="3058560" y="5156640"/>
            <a:ext cx="1505520" cy="2520"/>
          </a:xfrm>
          <a:prstGeom prst="bentConnector4">
            <a:avLst>
              <a:gd name="adj1" fmla="val 21502"/>
              <a:gd name="adj2" fmla="val -2650000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7" idx="1"/>
            <a:endCxn id="56" idx="3"/>
          </p:cNvCxnSpPr>
          <p:nvPr/>
        </p:nvCxnSpPr>
        <p:spPr>
          <a:xfrm flipV="1" rot="10800000">
            <a:off x="1455120" y="5559840"/>
            <a:ext cx="7405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700360" y="3429000"/>
            <a:ext cx="1871640" cy="946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ITED 5X FOLLOWED BY TAKBIR [ALLAHU AKB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92360" y="3141720"/>
            <a:ext cx="142920" cy="49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40360" y="5445000"/>
            <a:ext cx="1085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RUK'U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1">
            <a:biLevel thresh="50000"/>
            <a:lum bright="-36000"/>
          </a:blip>
          <a:stretch/>
        </p:blipFill>
        <p:spPr>
          <a:xfrm>
            <a:off x="4643280" y="4221000"/>
            <a:ext cx="847800" cy="153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427640" y="4941720"/>
            <a:ext cx="1022400" cy="9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SPECIAL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QUNOOT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5877000"/>
            <a:ext cx="2376360" cy="733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ITED 4X FOLLOWED BY TAKBIR [ALLAHU AKB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228600"/>
            <a:ext cx="6172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SALAAT - E - EIDA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838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  <a:ea typeface="Times New Roman"/>
              </a:rPr>
              <a:t>METHOD OF PR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2:47:01Z</dcterms:created>
  <dc:creator>Admin</dc:creator>
  <dc:description/>
  <dc:language>en-US</dc:language>
  <cp:lastModifiedBy>Sadiqa</cp:lastModifiedBy>
  <dcterms:modified xsi:type="dcterms:W3CDTF">2003-04-22T08:22:45Z</dcterms:modified>
  <cp:revision>7</cp:revision>
  <dc:subject/>
  <dc:title>PowerPoint Presentation</dc:title>
</cp:coreProperties>
</file>