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DB132-781A-44E1-9872-FCE45EDF0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3377-7BFB-49FE-805E-C8FFF465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FB68B-71D5-48CE-BC0D-18B86FBCB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58940-EFF7-4C39-8D15-777FDFC0E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12AA-8883-4530-8B03-80B8D826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788E5-474C-40F4-92C9-E2B7B6D5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D044-3C9D-4402-91D8-6605FB30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2C65-0B5D-497A-8415-CB02809D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A75F2-24A5-4AEB-810E-D0743BBB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E3B1-E640-470E-826B-7F8EF05C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59E2-A377-41DE-BB57-CF1726E9B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BCCD-573B-41CB-85DF-FBF17EBDB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23D3-67A8-4B32-9337-6302DE361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95280" y="1600200"/>
            <a:ext cx="6629400" cy="4944960"/>
          </a:xfrm>
          <a:prstGeom prst="rect">
            <a:avLst/>
          </a:prstGeom>
          <a:ln w="0">
            <a:noFill/>
          </a:ln>
        </p:spPr>
      </p:pic>
      <p:pic>
        <p:nvPicPr>
          <p:cNvPr id="42" name="" descr=""/>
          <p:cNvPicPr/>
          <p:nvPr/>
        </p:nvPicPr>
        <p:blipFill>
          <a:blip r:embed="rId2"/>
          <a:stretch/>
        </p:blipFill>
        <p:spPr>
          <a:xfrm>
            <a:off x="7658280" y="0"/>
            <a:ext cx="1485720" cy="1128600"/>
          </a:xfrm>
          <a:prstGeom prst="rect">
            <a:avLst/>
          </a:prstGeom>
          <a:ln w="0">
            <a:noFill/>
          </a:ln>
        </p:spPr>
      </p:pic>
      <p:sp>
        <p:nvSpPr>
          <p:cNvPr id="43" name=""/>
          <p:cNvSpPr txBox="1"/>
          <p:nvPr/>
        </p:nvSpPr>
        <p:spPr>
          <a:xfrm>
            <a:off x="2057400" y="26676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44" name=""/>
          <p:cNvSpPr/>
          <p:nvPr/>
        </p:nvSpPr>
        <p:spPr>
          <a:xfrm>
            <a:off x="1219320" y="106668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AYERS OFFERED IN A GATHERING</a:t>
            </a:r>
            <a:endParaRPr b="0" lang="en-US" sz="2400" spc="-1" strike="noStrike">
              <a:solidFill>
                <a:srgbClr val="000000"/>
              </a:solidFill>
              <a:latin typeface="Times New Roman"/>
            </a:endParaRPr>
          </a:p>
        </p:txBody>
      </p:sp>
      <p:sp>
        <p:nvSpPr>
          <p:cNvPr id="45" name=""/>
          <p:cNvSpPr txBox="1"/>
          <p:nvPr/>
        </p:nvSpPr>
        <p:spPr>
          <a:xfrm>
            <a:off x="228600" y="1371600"/>
            <a:ext cx="226692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BENEFITS</a:t>
            </a:r>
            <a:endParaRPr b="1" lang="en-US" sz="2400" spc="1" strike="noStrike">
              <a:ln w="9360">
                <a:solidFill>
                  <a:srgbClr val="000000"/>
                </a:solidFill>
                <a:miter/>
              </a:ln>
              <a:solidFill>
                <a:srgbClr val="000000"/>
              </a:solidFill>
              <a:latin typeface="Arial"/>
              <a:ea typeface="Arial"/>
            </a:endParaRPr>
          </a:p>
        </p:txBody>
      </p:sp>
      <p:sp>
        <p:nvSpPr>
          <p:cNvPr id="46" name=""/>
          <p:cNvSpPr/>
          <p:nvPr/>
        </p:nvSpPr>
        <p:spPr>
          <a:xfrm>
            <a:off x="3124080" y="25146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Love &amp; Co-operation</a:t>
            </a:r>
            <a:endParaRPr b="0" lang="en-US" sz="1800" spc="-1" strike="noStrike">
              <a:solidFill>
                <a:srgbClr val="000000"/>
              </a:solidFill>
              <a:latin typeface="Times New Roman"/>
            </a:endParaRPr>
          </a:p>
        </p:txBody>
      </p:sp>
      <p:sp>
        <p:nvSpPr>
          <p:cNvPr id="47" name=""/>
          <p:cNvSpPr/>
          <p:nvPr/>
        </p:nvSpPr>
        <p:spPr>
          <a:xfrm>
            <a:off x="3276720" y="487692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Islamic Equality</a:t>
            </a:r>
            <a:endParaRPr b="0" lang="en-US" sz="1800" spc="-1" strike="noStrike">
              <a:solidFill>
                <a:srgbClr val="000000"/>
              </a:solidFill>
              <a:latin typeface="Times New Roman"/>
            </a:endParaRPr>
          </a:p>
        </p:txBody>
      </p:sp>
      <p:sp>
        <p:nvSpPr>
          <p:cNvPr id="48" name=""/>
          <p:cNvSpPr/>
          <p:nvPr/>
        </p:nvSpPr>
        <p:spPr>
          <a:xfrm>
            <a:off x="5486400" y="59436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Unlimited Reward</a:t>
            </a:r>
            <a:endParaRPr b="0" lang="en-US" sz="1800" spc="-1" strike="noStrike">
              <a:solidFill>
                <a:srgbClr val="000000"/>
              </a:solidFill>
              <a:latin typeface="Times New Roman"/>
            </a:endParaRPr>
          </a:p>
        </p:txBody>
      </p:sp>
      <p:sp>
        <p:nvSpPr>
          <p:cNvPr id="49" name=""/>
          <p:cNvSpPr/>
          <p:nvPr/>
        </p:nvSpPr>
        <p:spPr>
          <a:xfrm>
            <a:off x="1219320" y="3657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Unity</a:t>
            </a:r>
            <a:endParaRPr b="0" lang="en-US" sz="1800" spc="-1" strike="noStrike">
              <a:solidFill>
                <a:srgbClr val="000000"/>
              </a:solidFill>
              <a:latin typeface="Times New Roman"/>
            </a:endParaRPr>
          </a:p>
        </p:txBody>
      </p:sp>
      <p:sp>
        <p:nvSpPr>
          <p:cNvPr id="50" name=""/>
          <p:cNvSpPr/>
          <p:nvPr/>
        </p:nvSpPr>
        <p:spPr>
          <a:xfrm>
            <a:off x="6248520" y="3581280"/>
            <a:ext cx="148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Discipline</a:t>
            </a:r>
            <a:endParaRPr b="0" lang="en-US" sz="1800" spc="-1" strike="noStrike">
              <a:solidFill>
                <a:srgbClr val="000000"/>
              </a:solidFill>
              <a:latin typeface="Times New Roman"/>
            </a:endParaRPr>
          </a:p>
        </p:txBody>
      </p:sp>
      <p:sp>
        <p:nvSpPr>
          <p:cNvPr id="51" name=""/>
          <p:cNvSpPr/>
          <p:nvPr/>
        </p:nvSpPr>
        <p:spPr>
          <a:xfrm>
            <a:off x="1295280" y="5943600"/>
            <a:ext cx="229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Prestige of Isl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658280" y="0"/>
            <a:ext cx="1485720" cy="1128600"/>
          </a:xfrm>
          <a:prstGeom prst="rect">
            <a:avLst/>
          </a:prstGeom>
          <a:ln w="0">
            <a:noFill/>
          </a:ln>
        </p:spPr>
      </p:pic>
      <p:sp>
        <p:nvSpPr>
          <p:cNvPr id="53" name=""/>
          <p:cNvSpPr txBox="1"/>
          <p:nvPr/>
        </p:nvSpPr>
        <p:spPr>
          <a:xfrm>
            <a:off x="2057400" y="22860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54" name=""/>
          <p:cNvSpPr txBox="1"/>
          <p:nvPr/>
        </p:nvSpPr>
        <p:spPr>
          <a:xfrm>
            <a:off x="152280" y="914400"/>
            <a:ext cx="24386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REWARDS</a:t>
            </a:r>
            <a:endParaRPr b="1" lang="en-US" sz="2400" spc="1" strike="noStrike">
              <a:ln w="9360">
                <a:solidFill>
                  <a:srgbClr val="000000"/>
                </a:solidFill>
                <a:miter/>
              </a:ln>
              <a:solidFill>
                <a:srgbClr val="000000"/>
              </a:solidFill>
              <a:latin typeface="Arial"/>
              <a:ea typeface="Arial"/>
            </a:endParaRPr>
          </a:p>
        </p:txBody>
      </p:sp>
      <p:sp>
        <p:nvSpPr>
          <p:cNvPr id="55" name=""/>
          <p:cNvSpPr/>
          <p:nvPr/>
        </p:nvSpPr>
        <p:spPr>
          <a:xfrm>
            <a:off x="2819520" y="144792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llah has put a very big reward for Jamaat Salaat. Our Holy Prophet (S) and our Imams (A) have placed great emphasis on Jamaat Salaat. Therefore, whenever we get an opportunity we should offer congregational prayers. </a:t>
            </a:r>
            <a:endParaRPr b="0" lang="en-US" sz="1800" spc="-1" strike="noStrike">
              <a:solidFill>
                <a:srgbClr val="000000"/>
              </a:solidFill>
              <a:latin typeface="Times New Roman"/>
            </a:endParaRPr>
          </a:p>
        </p:txBody>
      </p:sp>
      <p:grpSp>
        <p:nvGrpSpPr>
          <p:cNvPr id="56" name=""/>
          <p:cNvGrpSpPr/>
          <p:nvPr/>
        </p:nvGrpSpPr>
        <p:grpSpPr>
          <a:xfrm>
            <a:off x="533520" y="3124080"/>
            <a:ext cx="8000640" cy="2819520"/>
            <a:chOff x="533520" y="3124080"/>
            <a:chExt cx="8000640" cy="2819520"/>
          </a:xfrm>
        </p:grpSpPr>
        <p:grpSp>
          <p:nvGrpSpPr>
            <p:cNvPr id="57" name=""/>
            <p:cNvGrpSpPr/>
            <p:nvPr/>
          </p:nvGrpSpPr>
          <p:grpSpPr>
            <a:xfrm>
              <a:off x="541800" y="3127680"/>
              <a:ext cx="7983360" cy="2811960"/>
              <a:chOff x="541800" y="3127680"/>
              <a:chExt cx="7983360" cy="2811960"/>
            </a:xfrm>
          </p:grpSpPr>
          <p:grpSp>
            <p:nvGrpSpPr>
              <p:cNvPr id="58" name=""/>
              <p:cNvGrpSpPr/>
              <p:nvPr/>
            </p:nvGrpSpPr>
            <p:grpSpPr>
              <a:xfrm>
                <a:off x="541800" y="3127680"/>
                <a:ext cx="3097440" cy="648720"/>
                <a:chOff x="541800" y="3127680"/>
                <a:chExt cx="3097440" cy="648720"/>
              </a:xfrm>
            </p:grpSpPr>
            <p:sp>
              <p:nvSpPr>
                <p:cNvPr id="59" name=""/>
                <p:cNvSpPr/>
                <p:nvPr/>
              </p:nvSpPr>
              <p:spPr>
                <a:xfrm>
                  <a:off x="662760" y="3127680"/>
                  <a:ext cx="2855160" cy="6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ea typeface="Arial"/>
                    </a:rPr>
                    <a:t>People present in Jama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41800" y="3127680"/>
                  <a:ext cx="309744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3639600" y="3127680"/>
                <a:ext cx="4885200" cy="648720"/>
                <a:chOff x="3639600" y="3127680"/>
                <a:chExt cx="4885200" cy="648720"/>
              </a:xfrm>
            </p:grpSpPr>
            <p:sp>
              <p:nvSpPr>
                <p:cNvPr id="62" name=""/>
                <p:cNvSpPr/>
                <p:nvPr/>
              </p:nvSpPr>
              <p:spPr>
                <a:xfrm>
                  <a:off x="3759840" y="3127680"/>
                  <a:ext cx="4643640" cy="6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ea typeface="Arial"/>
                    </a:rPr>
                    <a:t>Each Rakaat wor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3639600" y="3127680"/>
                  <a:ext cx="488520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541800" y="3776400"/>
                <a:ext cx="3097440" cy="504720"/>
                <a:chOff x="541800" y="3776400"/>
                <a:chExt cx="3097440" cy="504720"/>
              </a:xfrm>
            </p:grpSpPr>
            <p:sp>
              <p:nvSpPr>
                <p:cNvPr id="65" name=""/>
                <p:cNvSpPr/>
                <p:nvPr/>
              </p:nvSpPr>
              <p:spPr>
                <a:xfrm>
                  <a:off x="662760" y="3776400"/>
                  <a:ext cx="28551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41800" y="3776400"/>
                  <a:ext cx="309744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3639600" y="3776400"/>
                <a:ext cx="4885200" cy="504720"/>
                <a:chOff x="3639600" y="3776400"/>
                <a:chExt cx="4885200" cy="504720"/>
              </a:xfrm>
            </p:grpSpPr>
            <p:sp>
              <p:nvSpPr>
                <p:cNvPr id="68" name=""/>
                <p:cNvSpPr/>
                <p:nvPr/>
              </p:nvSpPr>
              <p:spPr>
                <a:xfrm>
                  <a:off x="3759840" y="3776400"/>
                  <a:ext cx="464364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150 pray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3639600" y="3776400"/>
                  <a:ext cx="488520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541800" y="4281120"/>
                <a:ext cx="3097440" cy="504720"/>
                <a:chOff x="541800" y="4281120"/>
                <a:chExt cx="3097440" cy="504720"/>
              </a:xfrm>
            </p:grpSpPr>
            <p:sp>
              <p:nvSpPr>
                <p:cNvPr id="71" name=""/>
                <p:cNvSpPr/>
                <p:nvPr/>
              </p:nvSpPr>
              <p:spPr>
                <a:xfrm>
                  <a:off x="662760" y="4281120"/>
                  <a:ext cx="28551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41800" y="4281120"/>
                  <a:ext cx="309744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639600" y="4281120"/>
                <a:ext cx="4885200" cy="504720"/>
                <a:chOff x="3639600" y="4281120"/>
                <a:chExt cx="4885200" cy="504720"/>
              </a:xfrm>
            </p:grpSpPr>
            <p:sp>
              <p:nvSpPr>
                <p:cNvPr id="74" name=""/>
                <p:cNvSpPr/>
                <p:nvPr/>
              </p:nvSpPr>
              <p:spPr>
                <a:xfrm>
                  <a:off x="3759840" y="4281120"/>
                  <a:ext cx="464364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600 pray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3639600" y="4281120"/>
                  <a:ext cx="488520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541800" y="4785840"/>
                <a:ext cx="7983360" cy="648720"/>
                <a:chOff x="541800" y="4785840"/>
                <a:chExt cx="7983360" cy="648720"/>
              </a:xfrm>
            </p:grpSpPr>
            <p:sp>
              <p:nvSpPr>
                <p:cNvPr id="77" name=""/>
                <p:cNvSpPr/>
                <p:nvPr/>
              </p:nvSpPr>
              <p:spPr>
                <a:xfrm>
                  <a:off x="662760" y="4785840"/>
                  <a:ext cx="7741080" cy="64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THEREAFTER IT DOUBLES UNTIL AFTER THE 11th PERSON JO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41800" y="4785840"/>
                  <a:ext cx="79833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1800" y="5434920"/>
                <a:ext cx="3097440" cy="504720"/>
                <a:chOff x="541800" y="5434920"/>
                <a:chExt cx="3097440" cy="504720"/>
              </a:xfrm>
            </p:grpSpPr>
            <p:sp>
              <p:nvSpPr>
                <p:cNvPr id="80" name=""/>
                <p:cNvSpPr/>
                <p:nvPr/>
              </p:nvSpPr>
              <p:spPr>
                <a:xfrm>
                  <a:off x="662760" y="5434920"/>
                  <a:ext cx="28551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1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541800" y="5434920"/>
                  <a:ext cx="309744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3639600" y="5434920"/>
                <a:ext cx="4885200" cy="504720"/>
                <a:chOff x="3639600" y="5434920"/>
                <a:chExt cx="4885200" cy="504720"/>
              </a:xfrm>
            </p:grpSpPr>
            <p:sp>
              <p:nvSpPr>
                <p:cNvPr id="83" name=""/>
                <p:cNvSpPr/>
                <p:nvPr/>
              </p:nvSpPr>
              <p:spPr>
                <a:xfrm>
                  <a:off x="3759840" y="5434920"/>
                  <a:ext cx="464364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ONLY ALLAH KN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3639600" y="5434920"/>
                  <a:ext cx="4885200" cy="50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5" name=""/>
            <p:cNvSpPr/>
            <p:nvPr/>
          </p:nvSpPr>
          <p:spPr>
            <a:xfrm>
              <a:off x="533520" y="3124080"/>
              <a:ext cx="8000640" cy="2819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658280" y="0"/>
            <a:ext cx="1485720" cy="1128600"/>
          </a:xfrm>
          <a:prstGeom prst="rect">
            <a:avLst/>
          </a:prstGeom>
          <a:ln w="0">
            <a:noFill/>
          </a:ln>
        </p:spPr>
      </p:pic>
      <p:sp>
        <p:nvSpPr>
          <p:cNvPr id="87" name=""/>
          <p:cNvSpPr txBox="1"/>
          <p:nvPr/>
        </p:nvSpPr>
        <p:spPr>
          <a:xfrm>
            <a:off x="2057400" y="22860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88" name=""/>
          <p:cNvSpPr txBox="1"/>
          <p:nvPr/>
        </p:nvSpPr>
        <p:spPr>
          <a:xfrm>
            <a:off x="228600" y="914400"/>
            <a:ext cx="307656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IMPORTANCE</a:t>
            </a:r>
            <a:endParaRPr b="1" lang="en-US" sz="2400" spc="1" strike="noStrike">
              <a:ln w="9360">
                <a:solidFill>
                  <a:srgbClr val="000000"/>
                </a:solidFill>
                <a:miter/>
              </a:ln>
              <a:solidFill>
                <a:srgbClr val="000000"/>
              </a:solidFill>
              <a:latin typeface="Arial"/>
              <a:ea typeface="Arial"/>
            </a:endParaRPr>
          </a:p>
        </p:txBody>
      </p:sp>
      <p:sp>
        <p:nvSpPr>
          <p:cNvPr id="89" name=""/>
          <p:cNvSpPr/>
          <p:nvPr/>
        </p:nvSpPr>
        <p:spPr>
          <a:xfrm>
            <a:off x="533520" y="2133720"/>
            <a:ext cx="784836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Arial"/>
              </a:rPr>
              <a:t>25 times better than the prayers offered alo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Arial"/>
              </a:rPr>
              <a:t>As a recommended precaution the son must obey if a parent orders to offer Jamaat pray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Times New Roman"/>
              </a:rPr>
              <a:t>It is Mustahab for a person, who has already offered his prayers alone, to repeat the prayers in congrega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Arial"/>
              </a:rPr>
              <a:t>It is not permissible to absent oneself from the congregational prayers intentionall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Arial"/>
              </a:rPr>
              <a:t>It is not proper to abandon congregational prayers without a justifiable excus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33"/>
                </a:solidFill>
                <a:latin typeface="Arial"/>
                <a:ea typeface="Arial"/>
              </a:rPr>
              <a:t>When an Imam is leading a congregation for the daily prayers one can follow him for any of the daily prayer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Arial"/>
              </a:rPr>
              <a:t>FULL LISTING IN ISLAMIC LAW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658280" y="0"/>
            <a:ext cx="1485720" cy="1128600"/>
          </a:xfrm>
          <a:prstGeom prst="rect">
            <a:avLst/>
          </a:prstGeom>
          <a:ln w="0">
            <a:noFill/>
          </a:ln>
        </p:spPr>
      </p:pic>
      <p:sp>
        <p:nvSpPr>
          <p:cNvPr id="91" name=""/>
          <p:cNvSpPr txBox="1"/>
          <p:nvPr/>
        </p:nvSpPr>
        <p:spPr>
          <a:xfrm>
            <a:off x="2057400" y="22860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92" name=""/>
          <p:cNvSpPr/>
          <p:nvPr/>
        </p:nvSpPr>
        <p:spPr>
          <a:xfrm>
            <a:off x="457200" y="2197080"/>
            <a:ext cx="800100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The Imam of the congregation prayers should be: 1. </a:t>
            </a:r>
            <a:r>
              <a:rPr b="1" lang="en-GB" sz="1600" spc="-1" strike="noStrike">
                <a:solidFill>
                  <a:srgbClr val="ff0000"/>
                </a:solidFill>
                <a:latin typeface="Arial"/>
                <a:ea typeface="Arial"/>
              </a:rPr>
              <a:t>Baligh</a:t>
            </a:r>
            <a:r>
              <a:rPr b="1" lang="en-GB" sz="1600" spc="-1" strike="noStrike">
                <a:solidFill>
                  <a:srgbClr val="009900"/>
                </a:solidFill>
                <a:latin typeface="Arial"/>
                <a:ea typeface="Arial"/>
              </a:rPr>
              <a:t>, 2. </a:t>
            </a:r>
            <a:r>
              <a:rPr b="1" lang="en-GB" sz="1600" spc="-1" strike="noStrike">
                <a:solidFill>
                  <a:srgbClr val="ff0000"/>
                </a:solidFill>
                <a:latin typeface="Arial"/>
                <a:ea typeface="Arial"/>
              </a:rPr>
              <a:t>Adil</a:t>
            </a:r>
            <a:r>
              <a:rPr b="1" lang="en-GB" sz="1600" spc="-1" strike="noStrike">
                <a:solidFill>
                  <a:srgbClr val="0099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3. </a:t>
            </a:r>
            <a:r>
              <a:rPr b="1" lang="en-GB" sz="1600" spc="-1" strike="noStrike">
                <a:solidFill>
                  <a:srgbClr val="ff0000"/>
                </a:solidFill>
                <a:latin typeface="Arial"/>
                <a:ea typeface="Arial"/>
              </a:rPr>
              <a:t>of legitimate birth</a:t>
            </a:r>
            <a:r>
              <a:rPr b="1" lang="en-GB" sz="1600" spc="-1" strike="noStrike">
                <a:solidFill>
                  <a:srgbClr val="009900"/>
                </a:solidFill>
                <a:latin typeface="Arial"/>
                <a:ea typeface="Arial"/>
              </a:rPr>
              <a:t>,  4. </a:t>
            </a:r>
            <a:r>
              <a:rPr b="1" lang="en-GB" sz="1600" spc="-1" strike="noStrike">
                <a:solidFill>
                  <a:srgbClr val="ff0000"/>
                </a:solidFill>
                <a:latin typeface="Arial"/>
                <a:ea typeface="Arial"/>
              </a:rPr>
              <a:t>Sane</a:t>
            </a:r>
            <a:r>
              <a:rPr b="1" lang="en-GB" sz="1600" spc="-1" strike="noStrike">
                <a:solidFill>
                  <a:srgbClr val="009900"/>
                </a:solidFill>
                <a:latin typeface="Arial"/>
                <a:ea typeface="Arial"/>
              </a:rPr>
              <a:t> &amp;   5. </a:t>
            </a:r>
            <a:r>
              <a:rPr b="1" lang="en-GB" sz="1600" spc="-1" strike="noStrike">
                <a:solidFill>
                  <a:srgbClr val="ff0000"/>
                </a:solidFill>
                <a:latin typeface="Arial"/>
                <a:ea typeface="Arial"/>
              </a:rPr>
              <a:t>able to offer Salaat correctl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If the Imam and the followers are both women, the obligatory precaution is that all of them, including Imam should stand in the same li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In the 1</a:t>
            </a:r>
            <a:r>
              <a:rPr b="1" lang="en-GB" sz="1600" spc="-1" strike="noStrike" baseline="30000">
                <a:solidFill>
                  <a:srgbClr val="009900"/>
                </a:solidFill>
                <a:latin typeface="Arial"/>
                <a:ea typeface="Arial"/>
              </a:rPr>
              <a:t>st</a:t>
            </a:r>
            <a:r>
              <a:rPr b="1" lang="en-GB" sz="1600" spc="-1" strike="noStrike">
                <a:solidFill>
                  <a:srgbClr val="009900"/>
                </a:solidFill>
                <a:latin typeface="Arial"/>
                <a:ea typeface="Arial"/>
              </a:rPr>
              <a:t> line immediately after Imam, it is Mustahab, if aged, learned and pious persons occupy the 1</a:t>
            </a:r>
            <a:r>
              <a:rPr b="1" lang="en-GB" sz="1600" spc="-1" strike="noStrike" baseline="30000">
                <a:solidFill>
                  <a:srgbClr val="009900"/>
                </a:solidFill>
                <a:latin typeface="Arial"/>
                <a:ea typeface="Arial"/>
              </a:rPr>
              <a:t>st</a:t>
            </a:r>
            <a:r>
              <a:rPr b="1" lang="en-GB" sz="1600" spc="-1" strike="noStrike">
                <a:solidFill>
                  <a:srgbClr val="009900"/>
                </a:solidFill>
                <a:latin typeface="Arial"/>
                <a:ea typeface="Arial"/>
              </a:rPr>
              <a:t> row</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It is Mustahab that the rows of the congregation are properly arrange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There should be no gap between the persons standing in one row</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Arial"/>
              </a:rPr>
              <a:t>All should be standing shoulder to shoul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ea typeface="Times New Roman"/>
              </a:rPr>
              <a:t>It is necessary for the follower that, besides that which is recited in the prayers, he should perform all acts like Ruku and Sajdah with the Imam or a little after him</a:t>
            </a:r>
            <a:endParaRPr b="0" lang="en-US" sz="1600" spc="-1" strike="noStrike">
              <a:solidFill>
                <a:srgbClr val="000000"/>
              </a:solidFill>
              <a:latin typeface="Times New Roman"/>
            </a:endParaRPr>
          </a:p>
        </p:txBody>
      </p:sp>
      <p:sp>
        <p:nvSpPr>
          <p:cNvPr id="93" name=""/>
          <p:cNvSpPr txBox="1"/>
          <p:nvPr/>
        </p:nvSpPr>
        <p:spPr>
          <a:xfrm>
            <a:off x="228600" y="914400"/>
            <a:ext cx="307656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CONDITIONS</a:t>
            </a:r>
            <a:endParaRPr b="1" lang="en-US" sz="2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58280" y="0"/>
            <a:ext cx="1485720" cy="1128600"/>
          </a:xfrm>
          <a:prstGeom prst="rect">
            <a:avLst/>
          </a:prstGeom>
          <a:ln w="0">
            <a:noFill/>
          </a:ln>
        </p:spPr>
      </p:pic>
      <p:sp>
        <p:nvSpPr>
          <p:cNvPr id="95" name=""/>
          <p:cNvSpPr txBox="1"/>
          <p:nvPr/>
        </p:nvSpPr>
        <p:spPr>
          <a:xfrm>
            <a:off x="2057400" y="22860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96" name=""/>
          <p:cNvSpPr txBox="1"/>
          <p:nvPr/>
        </p:nvSpPr>
        <p:spPr>
          <a:xfrm>
            <a:off x="228600" y="914400"/>
            <a:ext cx="307656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HOW TO JOIN</a:t>
            </a:r>
            <a:endParaRPr b="1" lang="en-US" sz="2400" spc="1" strike="noStrike">
              <a:ln w="9360">
                <a:solidFill>
                  <a:srgbClr val="000000"/>
                </a:solidFill>
                <a:miter/>
              </a:ln>
              <a:solidFill>
                <a:srgbClr val="000000"/>
              </a:solidFill>
              <a:latin typeface="Arial"/>
              <a:ea typeface="Arial"/>
            </a:endParaRPr>
          </a:p>
        </p:txBody>
      </p:sp>
      <p:grpSp>
        <p:nvGrpSpPr>
          <p:cNvPr id="97" name=""/>
          <p:cNvGrpSpPr/>
          <p:nvPr/>
        </p:nvGrpSpPr>
        <p:grpSpPr>
          <a:xfrm>
            <a:off x="380880" y="2057400"/>
            <a:ext cx="8305560" cy="4129200"/>
            <a:chOff x="380880" y="2057400"/>
            <a:chExt cx="8305560" cy="4129200"/>
          </a:xfrm>
        </p:grpSpPr>
        <p:grpSp>
          <p:nvGrpSpPr>
            <p:cNvPr id="98" name=""/>
            <p:cNvGrpSpPr/>
            <p:nvPr/>
          </p:nvGrpSpPr>
          <p:grpSpPr>
            <a:xfrm>
              <a:off x="386640" y="2061000"/>
              <a:ext cx="8292600" cy="4121640"/>
              <a:chOff x="386640" y="2061000"/>
              <a:chExt cx="8292600" cy="4121640"/>
            </a:xfrm>
          </p:grpSpPr>
          <p:grpSp>
            <p:nvGrpSpPr>
              <p:cNvPr id="99" name=""/>
              <p:cNvGrpSpPr/>
              <p:nvPr/>
            </p:nvGrpSpPr>
            <p:grpSpPr>
              <a:xfrm>
                <a:off x="386640" y="2061000"/>
                <a:ext cx="1792800" cy="492480"/>
                <a:chOff x="386640" y="2061000"/>
                <a:chExt cx="1792800" cy="492480"/>
              </a:xfrm>
            </p:grpSpPr>
            <p:sp>
              <p:nvSpPr>
                <p:cNvPr id="100" name=""/>
                <p:cNvSpPr/>
                <p:nvPr/>
              </p:nvSpPr>
              <p:spPr>
                <a:xfrm>
                  <a:off x="475560" y="2061000"/>
                  <a:ext cx="1614600" cy="49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Scenar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6640" y="2061000"/>
                  <a:ext cx="1792800" cy="49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2179800" y="2061000"/>
                <a:ext cx="6499440" cy="492480"/>
                <a:chOff x="2179800" y="2061000"/>
                <a:chExt cx="6499440" cy="492480"/>
              </a:xfrm>
            </p:grpSpPr>
            <p:sp>
              <p:nvSpPr>
                <p:cNvPr id="103" name=""/>
                <p:cNvSpPr/>
                <p:nvPr/>
              </p:nvSpPr>
              <p:spPr>
                <a:xfrm>
                  <a:off x="2268360" y="2061000"/>
                  <a:ext cx="6321600" cy="49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Where to join in Congregational Pray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2179800" y="2061000"/>
                  <a:ext cx="6499440" cy="492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86640" y="2553480"/>
                <a:ext cx="1792800" cy="632880"/>
                <a:chOff x="386640" y="2553480"/>
                <a:chExt cx="1792800" cy="632880"/>
              </a:xfrm>
            </p:grpSpPr>
            <p:sp>
              <p:nvSpPr>
                <p:cNvPr id="106" name=""/>
                <p:cNvSpPr/>
                <p:nvPr/>
              </p:nvSpPr>
              <p:spPr>
                <a:xfrm>
                  <a:off x="386640" y="2553480"/>
                  <a:ext cx="179280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386640" y="2553480"/>
                  <a:ext cx="1792440" cy="632880"/>
                  <a:chOff x="386640" y="2553480"/>
                  <a:chExt cx="1792440" cy="632880"/>
                </a:xfrm>
              </p:grpSpPr>
              <p:sp>
                <p:nvSpPr>
                  <p:cNvPr id="108" name=""/>
                  <p:cNvSpPr/>
                  <p:nvPr/>
                </p:nvSpPr>
                <p:spPr>
                  <a:xfrm>
                    <a:off x="475560" y="2553480"/>
                    <a:ext cx="161424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386640" y="2553480"/>
                    <a:ext cx="179244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2179800" y="2553480"/>
                <a:ext cx="1297800" cy="632880"/>
                <a:chOff x="2179800" y="2553480"/>
                <a:chExt cx="1297800" cy="632880"/>
              </a:xfrm>
            </p:grpSpPr>
            <p:sp>
              <p:nvSpPr>
                <p:cNvPr id="111" name=""/>
                <p:cNvSpPr/>
                <p:nvPr/>
              </p:nvSpPr>
              <p:spPr>
                <a:xfrm>
                  <a:off x="2179800" y="2553480"/>
                  <a:ext cx="129780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2179800" y="2553480"/>
                  <a:ext cx="1297440" cy="632880"/>
                  <a:chOff x="2179800" y="2553480"/>
                  <a:chExt cx="1297440" cy="632880"/>
                </a:xfrm>
              </p:grpSpPr>
              <p:sp>
                <p:nvSpPr>
                  <p:cNvPr id="113" name=""/>
                  <p:cNvSpPr/>
                  <p:nvPr/>
                </p:nvSpPr>
                <p:spPr>
                  <a:xfrm>
                    <a:off x="2268360" y="2553480"/>
                    <a:ext cx="111960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Qiyam</a:t>
                    </a:r>
                    <a:endParaRPr b="0" lang="en-US" sz="1400" spc="-1" strike="noStrike">
                      <a:solidFill>
                        <a:srgbClr val="000000"/>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
                  <p:cNvSpPr/>
                  <p:nvPr/>
                </p:nvSpPr>
                <p:spPr>
                  <a:xfrm>
                    <a:off x="2179800" y="2553480"/>
                    <a:ext cx="129744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15" name=""/>
              <p:cNvGrpSpPr/>
              <p:nvPr/>
            </p:nvGrpSpPr>
            <p:grpSpPr>
              <a:xfrm>
                <a:off x="3478320" y="2553480"/>
                <a:ext cx="1299600" cy="632880"/>
                <a:chOff x="3478320" y="2553480"/>
                <a:chExt cx="1299600" cy="632880"/>
              </a:xfrm>
            </p:grpSpPr>
            <p:sp>
              <p:nvSpPr>
                <p:cNvPr id="116" name=""/>
                <p:cNvSpPr/>
                <p:nvPr/>
              </p:nvSpPr>
              <p:spPr>
                <a:xfrm>
                  <a:off x="3478320" y="2553480"/>
                  <a:ext cx="129960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3478320" y="2553480"/>
                  <a:ext cx="1299240" cy="632880"/>
                  <a:chOff x="3478320" y="2553480"/>
                  <a:chExt cx="1299240" cy="632880"/>
                </a:xfrm>
              </p:grpSpPr>
              <p:sp>
                <p:nvSpPr>
                  <p:cNvPr id="118" name=""/>
                  <p:cNvSpPr/>
                  <p:nvPr/>
                </p:nvSpPr>
                <p:spPr>
                  <a:xfrm>
                    <a:off x="3566880" y="2553480"/>
                    <a:ext cx="112140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Ruk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3478320" y="2553480"/>
                    <a:ext cx="129924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20" name=""/>
              <p:cNvGrpSpPr/>
              <p:nvPr/>
            </p:nvGrpSpPr>
            <p:grpSpPr>
              <a:xfrm>
                <a:off x="4778280" y="2553480"/>
                <a:ext cx="1299600" cy="632880"/>
                <a:chOff x="4778280" y="2553480"/>
                <a:chExt cx="1299600" cy="632880"/>
              </a:xfrm>
            </p:grpSpPr>
            <p:sp>
              <p:nvSpPr>
                <p:cNvPr id="121" name=""/>
                <p:cNvSpPr/>
                <p:nvPr/>
              </p:nvSpPr>
              <p:spPr>
                <a:xfrm>
                  <a:off x="4778280" y="2553480"/>
                  <a:ext cx="129960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778280" y="2553480"/>
                  <a:ext cx="1299240" cy="632880"/>
                  <a:chOff x="4778280" y="2553480"/>
                  <a:chExt cx="1299240" cy="632880"/>
                </a:xfrm>
              </p:grpSpPr>
              <p:sp>
                <p:nvSpPr>
                  <p:cNvPr id="123" name=""/>
                  <p:cNvSpPr/>
                  <p:nvPr/>
                </p:nvSpPr>
                <p:spPr>
                  <a:xfrm>
                    <a:off x="4867200" y="2553480"/>
                    <a:ext cx="112140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Sajda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4778280" y="2553480"/>
                    <a:ext cx="129924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25" name=""/>
              <p:cNvGrpSpPr/>
              <p:nvPr/>
            </p:nvGrpSpPr>
            <p:grpSpPr>
              <a:xfrm>
                <a:off x="6078600" y="2553480"/>
                <a:ext cx="1300320" cy="632880"/>
                <a:chOff x="6078600" y="2553480"/>
                <a:chExt cx="1300320" cy="632880"/>
              </a:xfrm>
            </p:grpSpPr>
            <p:sp>
              <p:nvSpPr>
                <p:cNvPr id="126" name=""/>
                <p:cNvSpPr/>
                <p:nvPr/>
              </p:nvSpPr>
              <p:spPr>
                <a:xfrm>
                  <a:off x="6078600" y="2553480"/>
                  <a:ext cx="130032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6078600" y="2553480"/>
                  <a:ext cx="1299960" cy="632880"/>
                  <a:chOff x="6078600" y="2553480"/>
                  <a:chExt cx="1299960" cy="632880"/>
                </a:xfrm>
              </p:grpSpPr>
              <p:sp>
                <p:nvSpPr>
                  <p:cNvPr id="128" name=""/>
                  <p:cNvSpPr/>
                  <p:nvPr/>
                </p:nvSpPr>
                <p:spPr>
                  <a:xfrm>
                    <a:off x="6167520" y="2553480"/>
                    <a:ext cx="112176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Tashahu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6078600" y="2553480"/>
                    <a:ext cx="129996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30" name=""/>
              <p:cNvGrpSpPr/>
              <p:nvPr/>
            </p:nvGrpSpPr>
            <p:grpSpPr>
              <a:xfrm>
                <a:off x="7379280" y="2553480"/>
                <a:ext cx="1299600" cy="632880"/>
                <a:chOff x="7379280" y="2553480"/>
                <a:chExt cx="1299600" cy="632880"/>
              </a:xfrm>
            </p:grpSpPr>
            <p:sp>
              <p:nvSpPr>
                <p:cNvPr id="131" name=""/>
                <p:cNvSpPr/>
                <p:nvPr/>
              </p:nvSpPr>
              <p:spPr>
                <a:xfrm>
                  <a:off x="7379280" y="2553480"/>
                  <a:ext cx="1299600" cy="63288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7379280" y="2553480"/>
                  <a:ext cx="1299240" cy="632880"/>
                  <a:chOff x="7379280" y="2553480"/>
                  <a:chExt cx="1299240" cy="632880"/>
                </a:xfrm>
              </p:grpSpPr>
              <p:sp>
                <p:nvSpPr>
                  <p:cNvPr id="133" name=""/>
                  <p:cNvSpPr/>
                  <p:nvPr/>
                </p:nvSpPr>
                <p:spPr>
                  <a:xfrm>
                    <a:off x="7467840" y="2553480"/>
                    <a:ext cx="1121400" cy="6328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Sala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7379280" y="2553480"/>
                    <a:ext cx="1299240" cy="63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135" name=""/>
              <p:cNvGrpSpPr/>
              <p:nvPr/>
            </p:nvGrpSpPr>
            <p:grpSpPr>
              <a:xfrm>
                <a:off x="386640" y="3186720"/>
                <a:ext cx="1792800" cy="740880"/>
                <a:chOff x="386640" y="3186720"/>
                <a:chExt cx="1792800" cy="740880"/>
              </a:xfrm>
            </p:grpSpPr>
            <p:sp>
              <p:nvSpPr>
                <p:cNvPr id="136" name=""/>
                <p:cNvSpPr/>
                <p:nvPr/>
              </p:nvSpPr>
              <p:spPr>
                <a:xfrm>
                  <a:off x="475560" y="3186720"/>
                  <a:ext cx="1614600" cy="74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Imam in 1</a:t>
                  </a:r>
                  <a:r>
                    <a:rPr b="1" lang="en-GB" sz="1400" spc="-1" strike="noStrike" baseline="30000">
                      <a:solidFill>
                        <a:srgbClr val="800080"/>
                      </a:solidFill>
                      <a:latin typeface="Arial"/>
                      <a:ea typeface="Arial"/>
                    </a:rPr>
                    <a:t>st</a:t>
                  </a:r>
                  <a:r>
                    <a:rPr b="1" lang="en-GB" sz="1400" spc="-1" strike="noStrike">
                      <a:solidFill>
                        <a:srgbClr val="800080"/>
                      </a:solidFill>
                      <a:latin typeface="Arial"/>
                      <a:ea typeface="Arial"/>
                    </a:rPr>
                    <a:t> Rakaat, better to join 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386640" y="3186720"/>
                  <a:ext cx="179280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179800" y="3186720"/>
                <a:ext cx="1297800" cy="740880"/>
                <a:chOff x="2179800" y="3186720"/>
                <a:chExt cx="1297800" cy="740880"/>
              </a:xfrm>
            </p:grpSpPr>
            <p:sp>
              <p:nvSpPr>
                <p:cNvPr id="139" name=""/>
                <p:cNvSpPr/>
                <p:nvPr/>
              </p:nvSpPr>
              <p:spPr>
                <a:xfrm>
                  <a:off x="2268360" y="3186720"/>
                  <a:ext cx="1119960" cy="74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2179800" y="3186720"/>
                  <a:ext cx="129780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478320" y="3186720"/>
                <a:ext cx="1299600" cy="740880"/>
                <a:chOff x="3478320" y="3186720"/>
                <a:chExt cx="1299600" cy="740880"/>
              </a:xfrm>
            </p:grpSpPr>
            <p:sp>
              <p:nvSpPr>
                <p:cNvPr id="142" name=""/>
                <p:cNvSpPr/>
                <p:nvPr/>
              </p:nvSpPr>
              <p:spPr>
                <a:xfrm>
                  <a:off x="3566880" y="3186720"/>
                  <a:ext cx="1121760" cy="74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3478320" y="3186720"/>
                  <a:ext cx="129960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4778280" y="3186720"/>
                <a:ext cx="1299600" cy="740880"/>
                <a:chOff x="4778280" y="3186720"/>
                <a:chExt cx="1299600" cy="740880"/>
              </a:xfrm>
            </p:grpSpPr>
            <p:sp>
              <p:nvSpPr>
                <p:cNvPr id="145" name=""/>
                <p:cNvSpPr/>
                <p:nvPr/>
              </p:nvSpPr>
              <p:spPr>
                <a:xfrm>
                  <a:off x="4867200" y="3186720"/>
                  <a:ext cx="1121760" cy="74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778280" y="3186720"/>
                  <a:ext cx="129960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6078600" y="3186720"/>
                <a:ext cx="1300320" cy="740880"/>
                <a:chOff x="6078600" y="3186720"/>
                <a:chExt cx="1300320" cy="740880"/>
              </a:xfrm>
            </p:grpSpPr>
            <p:sp>
              <p:nvSpPr>
                <p:cNvPr id="148" name=""/>
                <p:cNvSpPr/>
                <p:nvPr/>
              </p:nvSpPr>
              <p:spPr>
                <a:xfrm>
                  <a:off x="6167520" y="3186720"/>
                  <a:ext cx="1122120" cy="74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6078600" y="3186720"/>
                  <a:ext cx="130032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379280" y="3186720"/>
                <a:ext cx="1299600" cy="740880"/>
                <a:chOff x="7379280" y="3186720"/>
                <a:chExt cx="1299600" cy="740880"/>
              </a:xfrm>
            </p:grpSpPr>
            <p:sp>
              <p:nvSpPr>
                <p:cNvPr id="151" name=""/>
                <p:cNvSpPr/>
                <p:nvPr/>
              </p:nvSpPr>
              <p:spPr>
                <a:xfrm>
                  <a:off x="7467840" y="3186720"/>
                  <a:ext cx="1121760" cy="74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7379280" y="3186720"/>
                  <a:ext cx="1299600" cy="740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640" y="3927600"/>
                <a:ext cx="1792800" cy="740520"/>
                <a:chOff x="386640" y="3927600"/>
                <a:chExt cx="1792800" cy="740520"/>
              </a:xfrm>
            </p:grpSpPr>
            <p:sp>
              <p:nvSpPr>
                <p:cNvPr id="154" name=""/>
                <p:cNvSpPr/>
                <p:nvPr/>
              </p:nvSpPr>
              <p:spPr>
                <a:xfrm>
                  <a:off x="475560" y="3927600"/>
                  <a:ext cx="1614600" cy="740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Imam in 2nd Rakaat better to join 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386640" y="3927600"/>
                  <a:ext cx="17928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179800" y="3927600"/>
                <a:ext cx="1297800" cy="740520"/>
                <a:chOff x="2179800" y="3927600"/>
                <a:chExt cx="1297800" cy="740520"/>
              </a:xfrm>
            </p:grpSpPr>
            <p:sp>
              <p:nvSpPr>
                <p:cNvPr id="157" name=""/>
                <p:cNvSpPr/>
                <p:nvPr/>
              </p:nvSpPr>
              <p:spPr>
                <a:xfrm>
                  <a:off x="2268360" y="3927600"/>
                  <a:ext cx="1119960" cy="74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2179800" y="3927600"/>
                  <a:ext cx="12978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478320" y="3927600"/>
                <a:ext cx="1299600" cy="740520"/>
                <a:chOff x="3478320" y="3927600"/>
                <a:chExt cx="1299600" cy="740520"/>
              </a:xfrm>
            </p:grpSpPr>
            <p:sp>
              <p:nvSpPr>
                <p:cNvPr id="160" name=""/>
                <p:cNvSpPr/>
                <p:nvPr/>
              </p:nvSpPr>
              <p:spPr>
                <a:xfrm>
                  <a:off x="3566880" y="3927600"/>
                  <a:ext cx="1121760" cy="74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478320" y="392760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778280" y="3927600"/>
                <a:ext cx="1299600" cy="740520"/>
                <a:chOff x="4778280" y="3927600"/>
                <a:chExt cx="1299600" cy="740520"/>
              </a:xfrm>
            </p:grpSpPr>
            <p:sp>
              <p:nvSpPr>
                <p:cNvPr id="163" name=""/>
                <p:cNvSpPr/>
                <p:nvPr/>
              </p:nvSpPr>
              <p:spPr>
                <a:xfrm>
                  <a:off x="4867200" y="3927600"/>
                  <a:ext cx="112176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4778280" y="392760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078600" y="3927600"/>
                <a:ext cx="1300320" cy="740520"/>
                <a:chOff x="6078600" y="3927600"/>
                <a:chExt cx="1300320" cy="740520"/>
              </a:xfrm>
            </p:grpSpPr>
            <p:sp>
              <p:nvSpPr>
                <p:cNvPr id="166" name=""/>
                <p:cNvSpPr/>
                <p:nvPr/>
              </p:nvSpPr>
              <p:spPr>
                <a:xfrm>
                  <a:off x="6167520" y="3927600"/>
                  <a:ext cx="112212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6078600" y="3927600"/>
                  <a:ext cx="130032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379280" y="3927600"/>
                <a:ext cx="1299600" cy="740520"/>
                <a:chOff x="7379280" y="3927600"/>
                <a:chExt cx="1299600" cy="740520"/>
              </a:xfrm>
            </p:grpSpPr>
            <p:sp>
              <p:nvSpPr>
                <p:cNvPr id="169" name=""/>
                <p:cNvSpPr/>
                <p:nvPr/>
              </p:nvSpPr>
              <p:spPr>
                <a:xfrm>
                  <a:off x="7467840" y="3927600"/>
                  <a:ext cx="112176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7379280" y="392760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640" y="4668120"/>
                <a:ext cx="1792800" cy="740520"/>
                <a:chOff x="386640" y="4668120"/>
                <a:chExt cx="1792800" cy="740520"/>
              </a:xfrm>
            </p:grpSpPr>
            <p:sp>
              <p:nvSpPr>
                <p:cNvPr id="172" name=""/>
                <p:cNvSpPr/>
                <p:nvPr/>
              </p:nvSpPr>
              <p:spPr>
                <a:xfrm>
                  <a:off x="475560" y="4668120"/>
                  <a:ext cx="1614600" cy="740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Imam in 3rd \ 4th Rakaat, better to join 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386640" y="4668120"/>
                  <a:ext cx="17928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179800" y="4668120"/>
                <a:ext cx="1297800" cy="740520"/>
                <a:chOff x="2179800" y="4668120"/>
                <a:chExt cx="1297800" cy="740520"/>
              </a:xfrm>
            </p:grpSpPr>
            <p:sp>
              <p:nvSpPr>
                <p:cNvPr id="175" name=""/>
                <p:cNvSpPr/>
                <p:nvPr/>
              </p:nvSpPr>
              <p:spPr>
                <a:xfrm>
                  <a:off x="2268360" y="4668120"/>
                  <a:ext cx="111996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2179800" y="4668120"/>
                  <a:ext cx="12978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478320" y="4668120"/>
                <a:ext cx="1299600" cy="740520"/>
                <a:chOff x="3478320" y="4668120"/>
                <a:chExt cx="1299600" cy="740520"/>
              </a:xfrm>
            </p:grpSpPr>
            <p:sp>
              <p:nvSpPr>
                <p:cNvPr id="178" name=""/>
                <p:cNvSpPr/>
                <p:nvPr/>
              </p:nvSpPr>
              <p:spPr>
                <a:xfrm>
                  <a:off x="3566880" y="4668120"/>
                  <a:ext cx="1121760" cy="74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3478320" y="466812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778280" y="4668120"/>
                <a:ext cx="1299600" cy="740520"/>
                <a:chOff x="4778280" y="4668120"/>
                <a:chExt cx="1299600" cy="740520"/>
              </a:xfrm>
            </p:grpSpPr>
            <p:sp>
              <p:nvSpPr>
                <p:cNvPr id="181" name=""/>
                <p:cNvSpPr/>
                <p:nvPr/>
              </p:nvSpPr>
              <p:spPr>
                <a:xfrm>
                  <a:off x="4867200" y="4668120"/>
                  <a:ext cx="1121760" cy="74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778280" y="466812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078600" y="4668120"/>
                <a:ext cx="1300320" cy="740520"/>
                <a:chOff x="6078600" y="4668120"/>
                <a:chExt cx="1300320" cy="740520"/>
              </a:xfrm>
            </p:grpSpPr>
            <p:sp>
              <p:nvSpPr>
                <p:cNvPr id="184" name=""/>
                <p:cNvSpPr/>
                <p:nvPr/>
              </p:nvSpPr>
              <p:spPr>
                <a:xfrm>
                  <a:off x="6167520" y="4668120"/>
                  <a:ext cx="1122120" cy="74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6078600" y="4668120"/>
                  <a:ext cx="130032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379280" y="4668120"/>
                <a:ext cx="1299600" cy="740520"/>
                <a:chOff x="7379280" y="4668120"/>
                <a:chExt cx="1299600" cy="740520"/>
              </a:xfrm>
            </p:grpSpPr>
            <p:sp>
              <p:nvSpPr>
                <p:cNvPr id="187" name=""/>
                <p:cNvSpPr/>
                <p:nvPr/>
              </p:nvSpPr>
              <p:spPr>
                <a:xfrm>
                  <a:off x="7467840" y="4668120"/>
                  <a:ext cx="1121760" cy="74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7379280" y="4668120"/>
                  <a:ext cx="1299600" cy="740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640" y="5409000"/>
                <a:ext cx="1792800" cy="773640"/>
                <a:chOff x="386640" y="5409000"/>
                <a:chExt cx="1792800" cy="773640"/>
              </a:xfrm>
            </p:grpSpPr>
            <p:sp>
              <p:nvSpPr>
                <p:cNvPr id="190" name=""/>
                <p:cNvSpPr/>
                <p:nvPr/>
              </p:nvSpPr>
              <p:spPr>
                <a:xfrm>
                  <a:off x="475560" y="5409000"/>
                  <a:ext cx="1614600" cy="77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Imam in 3rd \ 4th Rakaat (Qiya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386640" y="5409000"/>
                  <a:ext cx="179280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179800" y="5409000"/>
                <a:ext cx="6499440" cy="773640"/>
                <a:chOff x="2179800" y="5409000"/>
                <a:chExt cx="6499440" cy="773640"/>
              </a:xfrm>
            </p:grpSpPr>
            <p:sp>
              <p:nvSpPr>
                <p:cNvPr id="193" name=""/>
                <p:cNvSpPr/>
                <p:nvPr/>
              </p:nvSpPr>
              <p:spPr>
                <a:xfrm>
                  <a:off x="2268360" y="5409000"/>
                  <a:ext cx="6321600" cy="77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ea typeface="Arial"/>
                    </a:rPr>
                    <a:t>Join and recite Surah Al Hamd and if you cannot finish the recitation by the time the Imam rises from Ruku’ you have to change your Niyyat to fura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2179800" y="5409000"/>
                  <a:ext cx="649944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95" name=""/>
            <p:cNvSpPr/>
            <p:nvPr/>
          </p:nvSpPr>
          <p:spPr>
            <a:xfrm>
              <a:off x="380880" y="2057400"/>
              <a:ext cx="8305560" cy="41292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658280" y="0"/>
            <a:ext cx="1485720" cy="1128600"/>
          </a:xfrm>
          <a:prstGeom prst="rect">
            <a:avLst/>
          </a:prstGeom>
          <a:ln w="0">
            <a:noFill/>
          </a:ln>
        </p:spPr>
      </p:pic>
      <p:sp>
        <p:nvSpPr>
          <p:cNvPr id="197" name=""/>
          <p:cNvSpPr txBox="1"/>
          <p:nvPr/>
        </p:nvSpPr>
        <p:spPr>
          <a:xfrm>
            <a:off x="2057400" y="228600"/>
            <a:ext cx="5040360" cy="7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SALAAT-E-JAMAAT</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198" name=""/>
          <p:cNvSpPr txBox="1"/>
          <p:nvPr/>
        </p:nvSpPr>
        <p:spPr>
          <a:xfrm>
            <a:off x="228600" y="914400"/>
            <a:ext cx="307656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HOW TO JOIN</a:t>
            </a:r>
            <a:endParaRPr b="1" lang="en-US" sz="2400" spc="1" strike="noStrike">
              <a:ln w="9360">
                <a:solidFill>
                  <a:srgbClr val="000000"/>
                </a:solidFill>
                <a:miter/>
              </a:ln>
              <a:solidFill>
                <a:srgbClr val="000000"/>
              </a:solidFill>
              <a:latin typeface="Arial"/>
              <a:ea typeface="Arial"/>
            </a:endParaRPr>
          </a:p>
        </p:txBody>
      </p:sp>
      <p:pic>
        <p:nvPicPr>
          <p:cNvPr id="199" name="so01372_" descr=""/>
          <p:cNvPicPr/>
          <p:nvPr/>
        </p:nvPicPr>
        <p:blipFill>
          <a:blip r:embed="rId2"/>
          <a:stretch/>
        </p:blipFill>
        <p:spPr>
          <a:xfrm>
            <a:off x="1393920" y="10137600"/>
            <a:ext cx="723960" cy="676440"/>
          </a:xfrm>
          <a:prstGeom prst="rect">
            <a:avLst/>
          </a:prstGeom>
          <a:ln w="0">
            <a:noFill/>
          </a:ln>
        </p:spPr>
      </p:pic>
      <p:sp>
        <p:nvSpPr>
          <p:cNvPr id="200" name=""/>
          <p:cNvSpPr/>
          <p:nvPr/>
        </p:nvSpPr>
        <p:spPr>
          <a:xfrm>
            <a:off x="5535720" y="10091880"/>
            <a:ext cx="85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so01372_" descr=""/>
          <p:cNvPicPr/>
          <p:nvPr/>
        </p:nvPicPr>
        <p:blipFill>
          <a:blip r:embed="rId3"/>
          <a:stretch/>
        </p:blipFill>
        <p:spPr>
          <a:xfrm>
            <a:off x="1393920" y="11604600"/>
            <a:ext cx="723960" cy="676440"/>
          </a:xfrm>
          <a:prstGeom prst="rect">
            <a:avLst/>
          </a:prstGeom>
          <a:ln w="0">
            <a:noFill/>
          </a:ln>
        </p:spPr>
      </p:pic>
      <p:sp>
        <p:nvSpPr>
          <p:cNvPr id="202" name=""/>
          <p:cNvSpPr/>
          <p:nvPr/>
        </p:nvSpPr>
        <p:spPr>
          <a:xfrm>
            <a:off x="5535720" y="11558520"/>
            <a:ext cx="86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
          <p:cNvGrpSpPr/>
          <p:nvPr/>
        </p:nvGrpSpPr>
        <p:grpSpPr>
          <a:xfrm>
            <a:off x="380880" y="2133720"/>
            <a:ext cx="8381880" cy="4343400"/>
            <a:chOff x="380880" y="2133720"/>
            <a:chExt cx="8381880" cy="4343400"/>
          </a:xfrm>
        </p:grpSpPr>
        <p:grpSp>
          <p:nvGrpSpPr>
            <p:cNvPr id="204" name=""/>
            <p:cNvGrpSpPr/>
            <p:nvPr/>
          </p:nvGrpSpPr>
          <p:grpSpPr>
            <a:xfrm>
              <a:off x="387000" y="2136960"/>
              <a:ext cx="8368920" cy="4336560"/>
              <a:chOff x="387000" y="2136960"/>
              <a:chExt cx="8368920" cy="4336560"/>
            </a:xfrm>
          </p:grpSpPr>
          <p:grpSp>
            <p:nvGrpSpPr>
              <p:cNvPr id="205" name=""/>
              <p:cNvGrpSpPr/>
              <p:nvPr/>
            </p:nvGrpSpPr>
            <p:grpSpPr>
              <a:xfrm>
                <a:off x="387000" y="2136960"/>
                <a:ext cx="1809360" cy="447480"/>
                <a:chOff x="387000" y="2136960"/>
                <a:chExt cx="1809360" cy="447480"/>
              </a:xfrm>
            </p:grpSpPr>
            <p:sp>
              <p:nvSpPr>
                <p:cNvPr id="206" name=""/>
                <p:cNvSpPr/>
                <p:nvPr/>
              </p:nvSpPr>
              <p:spPr>
                <a:xfrm>
                  <a:off x="477000" y="2136960"/>
                  <a:ext cx="162936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Scenari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87000" y="2136960"/>
                  <a:ext cx="1809360" cy="447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196720" y="2136960"/>
                <a:ext cx="6559200" cy="447480"/>
                <a:chOff x="2196720" y="2136960"/>
                <a:chExt cx="6559200" cy="447480"/>
              </a:xfrm>
            </p:grpSpPr>
            <p:sp>
              <p:nvSpPr>
                <p:cNvPr id="209" name=""/>
                <p:cNvSpPr/>
                <p:nvPr/>
              </p:nvSpPr>
              <p:spPr>
                <a:xfrm>
                  <a:off x="2286000" y="2136960"/>
                  <a:ext cx="637956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Where to join in Congregational Pray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2196720" y="2136960"/>
                  <a:ext cx="6559200" cy="447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87000" y="2584440"/>
                <a:ext cx="1809360" cy="574920"/>
                <a:chOff x="387000" y="2584440"/>
                <a:chExt cx="1809360" cy="574920"/>
              </a:xfrm>
            </p:grpSpPr>
            <p:sp>
              <p:nvSpPr>
                <p:cNvPr id="212" name=""/>
                <p:cNvSpPr/>
                <p:nvPr/>
              </p:nvSpPr>
              <p:spPr>
                <a:xfrm>
                  <a:off x="387000" y="2584440"/>
                  <a:ext cx="180936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387000" y="2584440"/>
                  <a:ext cx="1809000" cy="574920"/>
                  <a:chOff x="387000" y="2584440"/>
                  <a:chExt cx="1809000" cy="574920"/>
                </a:xfrm>
              </p:grpSpPr>
              <p:sp>
                <p:nvSpPr>
                  <p:cNvPr id="214" name=""/>
                  <p:cNvSpPr/>
                  <p:nvPr/>
                </p:nvSpPr>
                <p:spPr>
                  <a:xfrm>
                    <a:off x="477000" y="2584440"/>
                    <a:ext cx="162900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387000" y="2584440"/>
                    <a:ext cx="180900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16" name=""/>
              <p:cNvGrpSpPr/>
              <p:nvPr/>
            </p:nvGrpSpPr>
            <p:grpSpPr>
              <a:xfrm>
                <a:off x="2196720" y="2584440"/>
                <a:ext cx="1309680" cy="574920"/>
                <a:chOff x="2196720" y="2584440"/>
                <a:chExt cx="1309680" cy="574920"/>
              </a:xfrm>
            </p:grpSpPr>
            <p:sp>
              <p:nvSpPr>
                <p:cNvPr id="217" name=""/>
                <p:cNvSpPr/>
                <p:nvPr/>
              </p:nvSpPr>
              <p:spPr>
                <a:xfrm>
                  <a:off x="2196720" y="2584440"/>
                  <a:ext cx="130968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2196720" y="2584440"/>
                  <a:ext cx="1309320" cy="574920"/>
                  <a:chOff x="2196720" y="2584440"/>
                  <a:chExt cx="1309320" cy="574920"/>
                </a:xfrm>
              </p:grpSpPr>
              <p:sp>
                <p:nvSpPr>
                  <p:cNvPr id="219" name=""/>
                  <p:cNvSpPr/>
                  <p:nvPr/>
                </p:nvSpPr>
                <p:spPr>
                  <a:xfrm>
                    <a:off x="2286000" y="2584440"/>
                    <a:ext cx="113004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Qiyam</a:t>
                    </a:r>
                    <a:endParaRPr b="0" lang="en-US" sz="1200" spc="-1" strike="noStrike">
                      <a:solidFill>
                        <a:srgbClr val="000000"/>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2196720" y="2584440"/>
                    <a:ext cx="130932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3507120" y="2584440"/>
                <a:ext cx="1311840" cy="574920"/>
                <a:chOff x="3507120" y="2584440"/>
                <a:chExt cx="1311840" cy="574920"/>
              </a:xfrm>
            </p:grpSpPr>
            <p:sp>
              <p:nvSpPr>
                <p:cNvPr id="222" name=""/>
                <p:cNvSpPr/>
                <p:nvPr/>
              </p:nvSpPr>
              <p:spPr>
                <a:xfrm>
                  <a:off x="3507120" y="2584440"/>
                  <a:ext cx="131184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3507120" y="2584440"/>
                  <a:ext cx="1311480" cy="574920"/>
                  <a:chOff x="3507120" y="2584440"/>
                  <a:chExt cx="1311480" cy="574920"/>
                </a:xfrm>
              </p:grpSpPr>
              <p:sp>
                <p:nvSpPr>
                  <p:cNvPr id="224" name=""/>
                  <p:cNvSpPr/>
                  <p:nvPr/>
                </p:nvSpPr>
                <p:spPr>
                  <a:xfrm>
                    <a:off x="3596400" y="2584440"/>
                    <a:ext cx="113184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Ru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3507120" y="2584440"/>
                    <a:ext cx="131148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4819320" y="2584440"/>
                <a:ext cx="1311840" cy="574920"/>
                <a:chOff x="4819320" y="2584440"/>
                <a:chExt cx="1311840" cy="574920"/>
              </a:xfrm>
            </p:grpSpPr>
            <p:sp>
              <p:nvSpPr>
                <p:cNvPr id="227" name=""/>
                <p:cNvSpPr/>
                <p:nvPr/>
              </p:nvSpPr>
              <p:spPr>
                <a:xfrm>
                  <a:off x="4819320" y="2584440"/>
                  <a:ext cx="131184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4819320" y="2584440"/>
                  <a:ext cx="1311480" cy="574920"/>
                  <a:chOff x="4819320" y="2584440"/>
                  <a:chExt cx="1311480" cy="574920"/>
                </a:xfrm>
              </p:grpSpPr>
              <p:sp>
                <p:nvSpPr>
                  <p:cNvPr id="229" name=""/>
                  <p:cNvSpPr/>
                  <p:nvPr/>
                </p:nvSpPr>
                <p:spPr>
                  <a:xfrm>
                    <a:off x="4909320" y="2584440"/>
                    <a:ext cx="113184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Sajda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4819320" y="2584440"/>
                    <a:ext cx="131148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31" name=""/>
              <p:cNvGrpSpPr/>
              <p:nvPr/>
            </p:nvGrpSpPr>
            <p:grpSpPr>
              <a:xfrm>
                <a:off x="6131520" y="2584440"/>
                <a:ext cx="1312200" cy="574920"/>
                <a:chOff x="6131520" y="2584440"/>
                <a:chExt cx="1312200" cy="574920"/>
              </a:xfrm>
            </p:grpSpPr>
            <p:sp>
              <p:nvSpPr>
                <p:cNvPr id="232" name=""/>
                <p:cNvSpPr/>
                <p:nvPr/>
              </p:nvSpPr>
              <p:spPr>
                <a:xfrm>
                  <a:off x="6131520" y="2584440"/>
                  <a:ext cx="131220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6131520" y="2584440"/>
                  <a:ext cx="1311840" cy="574920"/>
                  <a:chOff x="6131520" y="2584440"/>
                  <a:chExt cx="1311840" cy="574920"/>
                </a:xfrm>
              </p:grpSpPr>
              <p:sp>
                <p:nvSpPr>
                  <p:cNvPr id="234" name=""/>
                  <p:cNvSpPr/>
                  <p:nvPr/>
                </p:nvSpPr>
                <p:spPr>
                  <a:xfrm>
                    <a:off x="6221160" y="2584440"/>
                    <a:ext cx="113184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Tashah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6131520" y="2584440"/>
                    <a:ext cx="131184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36" name=""/>
              <p:cNvGrpSpPr/>
              <p:nvPr/>
            </p:nvGrpSpPr>
            <p:grpSpPr>
              <a:xfrm>
                <a:off x="7444080" y="2584440"/>
                <a:ext cx="1311840" cy="574920"/>
                <a:chOff x="7444080" y="2584440"/>
                <a:chExt cx="1311840" cy="574920"/>
              </a:xfrm>
            </p:grpSpPr>
            <p:sp>
              <p:nvSpPr>
                <p:cNvPr id="237" name=""/>
                <p:cNvSpPr/>
                <p:nvPr/>
              </p:nvSpPr>
              <p:spPr>
                <a:xfrm>
                  <a:off x="7444080" y="2584440"/>
                  <a:ext cx="1311840" cy="574920"/>
                </a:xfrm>
                <a:prstGeom prst="rect">
                  <a:avLst/>
                </a:prstGeom>
                <a:solidFill>
                  <a:srgbClr val="f2f2f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7444080" y="2584440"/>
                  <a:ext cx="1311480" cy="574920"/>
                  <a:chOff x="7444080" y="2584440"/>
                  <a:chExt cx="1311480" cy="574920"/>
                </a:xfrm>
              </p:grpSpPr>
              <p:sp>
                <p:nvSpPr>
                  <p:cNvPr id="239" name=""/>
                  <p:cNvSpPr/>
                  <p:nvPr/>
                </p:nvSpPr>
                <p:spPr>
                  <a:xfrm>
                    <a:off x="7533360" y="2584440"/>
                    <a:ext cx="1131840" cy="5749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Sala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7444080" y="2584440"/>
                    <a:ext cx="1311480" cy="57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387000" y="3159720"/>
                <a:ext cx="1809360" cy="790560"/>
                <a:chOff x="387000" y="3159720"/>
                <a:chExt cx="1809360" cy="790560"/>
              </a:xfrm>
            </p:grpSpPr>
            <p:sp>
              <p:nvSpPr>
                <p:cNvPr id="242" name=""/>
                <p:cNvSpPr/>
                <p:nvPr/>
              </p:nvSpPr>
              <p:spPr>
                <a:xfrm>
                  <a:off x="477000" y="3159720"/>
                  <a:ext cx="1629360" cy="790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If you do not know which Rakaat it is always join i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387000" y="3159720"/>
                  <a:ext cx="180936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196720" y="3159720"/>
                <a:ext cx="1309680" cy="790560"/>
                <a:chOff x="2196720" y="3159720"/>
                <a:chExt cx="1309680" cy="790560"/>
              </a:xfrm>
            </p:grpSpPr>
            <p:sp>
              <p:nvSpPr>
                <p:cNvPr id="245" name=""/>
                <p:cNvSpPr/>
                <p:nvPr/>
              </p:nvSpPr>
              <p:spPr>
                <a:xfrm>
                  <a:off x="2286000" y="3159720"/>
                  <a:ext cx="113004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196720" y="3159720"/>
                  <a:ext cx="130968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507120" y="3159720"/>
                <a:ext cx="1311840" cy="790560"/>
                <a:chOff x="3507120" y="3159720"/>
                <a:chExt cx="1311840" cy="790560"/>
              </a:xfrm>
            </p:grpSpPr>
            <p:sp>
              <p:nvSpPr>
                <p:cNvPr id="248" name=""/>
                <p:cNvSpPr/>
                <p:nvPr/>
              </p:nvSpPr>
              <p:spPr>
                <a:xfrm>
                  <a:off x="3596400" y="3159720"/>
                  <a:ext cx="11322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507120" y="3159720"/>
                  <a:ext cx="131184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819320" y="3159720"/>
                <a:ext cx="1311840" cy="790560"/>
                <a:chOff x="4819320" y="3159720"/>
                <a:chExt cx="1311840" cy="790560"/>
              </a:xfrm>
            </p:grpSpPr>
            <p:sp>
              <p:nvSpPr>
                <p:cNvPr id="251" name=""/>
                <p:cNvSpPr/>
                <p:nvPr/>
              </p:nvSpPr>
              <p:spPr>
                <a:xfrm>
                  <a:off x="4909320" y="3159720"/>
                  <a:ext cx="11322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4819320" y="3159720"/>
                  <a:ext cx="131184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131520" y="3159720"/>
                <a:ext cx="1312200" cy="790560"/>
                <a:chOff x="6131520" y="3159720"/>
                <a:chExt cx="1312200" cy="790560"/>
              </a:xfrm>
            </p:grpSpPr>
            <p:sp>
              <p:nvSpPr>
                <p:cNvPr id="254" name=""/>
                <p:cNvSpPr/>
                <p:nvPr/>
              </p:nvSpPr>
              <p:spPr>
                <a:xfrm>
                  <a:off x="6221520" y="3159720"/>
                  <a:ext cx="11322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6131520" y="3159720"/>
                  <a:ext cx="131220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444080" y="3159720"/>
                <a:ext cx="1311840" cy="790560"/>
                <a:chOff x="7444080" y="3159720"/>
                <a:chExt cx="1311840" cy="790560"/>
              </a:xfrm>
            </p:grpSpPr>
            <p:sp>
              <p:nvSpPr>
                <p:cNvPr id="257" name=""/>
                <p:cNvSpPr/>
                <p:nvPr/>
              </p:nvSpPr>
              <p:spPr>
                <a:xfrm>
                  <a:off x="7533360" y="3159720"/>
                  <a:ext cx="11322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7444080" y="3159720"/>
                  <a:ext cx="1311840" cy="79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87000" y="3950280"/>
                <a:ext cx="1809360" cy="1496880"/>
                <a:chOff x="387000" y="3950280"/>
                <a:chExt cx="1809360" cy="1496880"/>
              </a:xfrm>
            </p:grpSpPr>
            <p:sp>
              <p:nvSpPr>
                <p:cNvPr id="260" name=""/>
                <p:cNvSpPr/>
                <p:nvPr/>
              </p:nvSpPr>
              <p:spPr>
                <a:xfrm>
                  <a:off x="477000" y="3950280"/>
                  <a:ext cx="1629360" cy="14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You enter the Mosque it is the last Sajdah, you perform your Niyyat and Takbiratul ehram and then go in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387000" y="3950280"/>
                  <a:ext cx="1809360" cy="1496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96720" y="3950280"/>
                <a:ext cx="1309680" cy="1496880"/>
                <a:chOff x="2196720" y="3950280"/>
                <a:chExt cx="1309680" cy="1496880"/>
              </a:xfrm>
            </p:grpSpPr>
            <p:sp>
              <p:nvSpPr>
                <p:cNvPr id="263" name=""/>
                <p:cNvSpPr/>
                <p:nvPr/>
              </p:nvSpPr>
              <p:spPr>
                <a:xfrm>
                  <a:off x="2286000" y="3950280"/>
                  <a:ext cx="1130040" cy="149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196720" y="3950280"/>
                  <a:ext cx="1309680" cy="1496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507120" y="3950280"/>
                <a:ext cx="1311840" cy="1496880"/>
                <a:chOff x="3507120" y="3950280"/>
                <a:chExt cx="1311840" cy="1496880"/>
              </a:xfrm>
            </p:grpSpPr>
            <p:sp>
              <p:nvSpPr>
                <p:cNvPr id="266" name=""/>
                <p:cNvSpPr/>
                <p:nvPr/>
              </p:nvSpPr>
              <p:spPr>
                <a:xfrm>
                  <a:off x="3596400" y="3950280"/>
                  <a:ext cx="1132200" cy="149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3507120" y="3950280"/>
                  <a:ext cx="1311840" cy="1496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4819320" y="3950280"/>
                <a:ext cx="1311840" cy="1496880"/>
                <a:chOff x="4819320" y="3950280"/>
                <a:chExt cx="1311840" cy="1496880"/>
              </a:xfrm>
            </p:grpSpPr>
            <p:sp>
              <p:nvSpPr>
                <p:cNvPr id="269" name=""/>
                <p:cNvSpPr/>
                <p:nvPr/>
              </p:nvSpPr>
              <p:spPr>
                <a:xfrm>
                  <a:off x="4909320" y="3950280"/>
                  <a:ext cx="1132200" cy="14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Wingdings 2"/>
                      <a:ea typeface="Wingdings 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4819320" y="3950280"/>
                  <a:ext cx="1311840" cy="1496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6131520" y="3950280"/>
                <a:ext cx="2624400" cy="1496880"/>
                <a:chOff x="6131520" y="3950280"/>
                <a:chExt cx="2624400" cy="1496880"/>
              </a:xfrm>
            </p:grpSpPr>
            <p:sp>
              <p:nvSpPr>
                <p:cNvPr id="272" name=""/>
                <p:cNvSpPr/>
                <p:nvPr/>
              </p:nvSpPr>
              <p:spPr>
                <a:xfrm>
                  <a:off x="6221520" y="3950280"/>
                  <a:ext cx="2444400" cy="14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By joining you are being rewarded Jamaat Sawaab. During Tashahud and Salam, raise your knees and place your palms on the floor – rise up to your 1st Rakaat when Imam completes Sal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6131520" y="3950280"/>
                  <a:ext cx="2624400" cy="1496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87000" y="5447520"/>
                <a:ext cx="1809360" cy="1026000"/>
                <a:chOff x="387000" y="5447520"/>
                <a:chExt cx="1809360" cy="1026000"/>
              </a:xfrm>
            </p:grpSpPr>
            <p:sp>
              <p:nvSpPr>
                <p:cNvPr id="275" name=""/>
                <p:cNvSpPr/>
                <p:nvPr/>
              </p:nvSpPr>
              <p:spPr>
                <a:xfrm>
                  <a:off x="477000" y="5447520"/>
                  <a:ext cx="1629360" cy="10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Arial"/>
                    </a:rPr>
                    <a:t>Extra no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387000" y="5447520"/>
                  <a:ext cx="1809360" cy="1026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2196720" y="5447520"/>
                <a:ext cx="1309680" cy="1026000"/>
                <a:chOff x="2196720" y="5447520"/>
                <a:chExt cx="1309680" cy="1026000"/>
              </a:xfrm>
            </p:grpSpPr>
            <p:sp>
              <p:nvSpPr>
                <p:cNvPr id="278" name=""/>
                <p:cNvSpPr/>
                <p:nvPr/>
              </p:nvSpPr>
              <p:spPr>
                <a:xfrm>
                  <a:off x="2286000" y="5447520"/>
                  <a:ext cx="1130040" cy="1026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9" name=""/>
                <p:cNvSpPr/>
                <p:nvPr/>
              </p:nvSpPr>
              <p:spPr>
                <a:xfrm>
                  <a:off x="2196720" y="5447520"/>
                  <a:ext cx="1309680" cy="1026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507120" y="5447520"/>
                <a:ext cx="2624040" cy="1026000"/>
                <a:chOff x="3507120" y="5447520"/>
                <a:chExt cx="2624040" cy="1026000"/>
              </a:xfrm>
            </p:grpSpPr>
            <p:sp>
              <p:nvSpPr>
                <p:cNvPr id="281" name=""/>
                <p:cNvSpPr/>
                <p:nvPr/>
              </p:nvSpPr>
              <p:spPr>
                <a:xfrm>
                  <a:off x="3596400" y="5447520"/>
                  <a:ext cx="2445120" cy="10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ea typeface="Arial"/>
                    </a:rPr>
                    <a:t>Raising of the knees from the ground is also followed in Tashahud and Salaam when you join in 2nd, 3rd and 4th Raka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3507120" y="5447520"/>
                  <a:ext cx="2624040" cy="1026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131520" y="5447520"/>
                <a:ext cx="1312200" cy="1026000"/>
                <a:chOff x="6131520" y="5447520"/>
                <a:chExt cx="1312200" cy="1026000"/>
              </a:xfrm>
            </p:grpSpPr>
            <p:sp>
              <p:nvSpPr>
                <p:cNvPr id="284" name=""/>
                <p:cNvSpPr/>
                <p:nvPr/>
              </p:nvSpPr>
              <p:spPr>
                <a:xfrm>
                  <a:off x="6221520" y="5447520"/>
                  <a:ext cx="1132200" cy="1026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5" name=""/>
                <p:cNvSpPr/>
                <p:nvPr/>
              </p:nvSpPr>
              <p:spPr>
                <a:xfrm>
                  <a:off x="6131520" y="5447520"/>
                  <a:ext cx="1312200" cy="1026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7444080" y="5447520"/>
                <a:ext cx="1311840" cy="1026000"/>
                <a:chOff x="7444080" y="5447520"/>
                <a:chExt cx="1311840" cy="1026000"/>
              </a:xfrm>
            </p:grpSpPr>
            <p:sp>
              <p:nvSpPr>
                <p:cNvPr id="287" name=""/>
                <p:cNvSpPr/>
                <p:nvPr/>
              </p:nvSpPr>
              <p:spPr>
                <a:xfrm>
                  <a:off x="7533360" y="5447520"/>
                  <a:ext cx="1132200" cy="102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7444080" y="5447520"/>
                  <a:ext cx="1311840" cy="1026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89" name=""/>
            <p:cNvSpPr/>
            <p:nvPr/>
          </p:nvSpPr>
          <p:spPr>
            <a:xfrm>
              <a:off x="380880" y="2133720"/>
              <a:ext cx="8381880" cy="43434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pic>
        <p:nvPicPr>
          <p:cNvPr id="290" name="so01372_" descr=""/>
          <p:cNvPicPr/>
          <p:nvPr/>
        </p:nvPicPr>
        <p:blipFill>
          <a:blip r:embed="rId4"/>
          <a:stretch/>
        </p:blipFill>
        <p:spPr>
          <a:xfrm>
            <a:off x="2438280" y="5562720"/>
            <a:ext cx="723960" cy="676080"/>
          </a:xfrm>
          <a:prstGeom prst="rect">
            <a:avLst/>
          </a:prstGeom>
          <a:ln w="0">
            <a:noFill/>
          </a:ln>
        </p:spPr>
      </p:pic>
      <p:pic>
        <p:nvPicPr>
          <p:cNvPr id="291" name="so01372_" descr=""/>
          <p:cNvPicPr/>
          <p:nvPr/>
        </p:nvPicPr>
        <p:blipFill>
          <a:blip r:embed="rId5"/>
          <a:stretch/>
        </p:blipFill>
        <p:spPr>
          <a:xfrm>
            <a:off x="6400800" y="5562720"/>
            <a:ext cx="723960" cy="67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0:35:07Z</dcterms:created>
  <dc:creator>Admin</dc:creator>
  <dc:description/>
  <dc:language>en-US</dc:language>
  <cp:lastModifiedBy>Sadiqa</cp:lastModifiedBy>
  <dcterms:modified xsi:type="dcterms:W3CDTF">2003-04-22T08:26:20Z</dcterms:modified>
  <cp:revision>6</cp:revision>
  <dc:subject/>
  <dc:title>PowerPoint Presentation</dc:title>
</cp:coreProperties>
</file>