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D7F-0854-4D54-9933-2CA8E232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345-273C-4B83-817A-765D5452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54C-D3DF-4FDE-920A-D18813AC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1A8-906A-4A91-8789-60F257BF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CBF2-62DE-4667-98B8-EBCB8843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014-679A-4283-87C2-42A82C93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5A9-A4F4-46D1-B174-D80D88DB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3DE-B745-40AD-9761-E4EB2D7E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1D7-C8C4-4BA8-95F5-C928A002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9D1-60C3-4B29-B570-F4C4C61C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50F-4FE7-429B-9AE0-71604712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4C8-D8EA-420D-8EA6-4D24DA4D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A9FC-03D2-455F-B1BD-6E4363732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7990" t="16584" r="37008" b="15201"/>
          <a:stretch/>
        </p:blipFill>
        <p:spPr>
          <a:xfrm>
            <a:off x="611280" y="148428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59280" y="1484280"/>
            <a:ext cx="4897440" cy="1224000"/>
          </a:xfrm>
          <a:prstGeom prst="wedgeRoundRectCallout">
            <a:avLst>
              <a:gd name="adj1" fmla="val -63356"/>
              <a:gd name="adj2" fmla="val 52722"/>
              <a:gd name="adj3" fmla="val 16667"/>
            </a:avLst>
          </a:prstGeom>
          <a:gradFill rotWithShape="0">
            <a:gsLst>
              <a:gs pos="0">
                <a:srgbClr val="ccccff">
                  <a:alpha val="55294"/>
                </a:srgbClr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IDE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all abou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ICH DI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pray and 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MAAZ IS BECOMING QAD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 Help!! What should I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5640" y="404640"/>
            <a:ext cx="64771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cademy Engraved LET"/>
              </a:rPr>
              <a:t>UNCERTAINTY OF QIBLAH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cademy Engraved LET"/>
              <a:ea typeface="Academy Engraved LE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84720" y="3213000"/>
            <a:ext cx="2730600" cy="275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4437000"/>
            <a:ext cx="5545080" cy="2087640"/>
          </a:xfrm>
          <a:prstGeom prst="wedgeEllipseCallout">
            <a:avLst>
              <a:gd name="adj1" fmla="val 63828"/>
              <a:gd name="adj2" fmla="val -38819"/>
            </a:avLst>
          </a:prstGeom>
          <a:gradFill rotWithShape="0">
            <a:gsLst>
              <a:gs pos="0">
                <a:srgbClr val="ccccff">
                  <a:alpha val="55294"/>
                </a:srgbClr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n’t panic! Just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AY IN ANY DIREC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However, for your next Namaaz, if ther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S ENOUGH TIM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you will hav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AY IN ALL 4 DIREC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812000" y="404640"/>
            <a:ext cx="1150920" cy="8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024360" cy="250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24360" y="1484280"/>
            <a:ext cx="4535280" cy="1368360"/>
          </a:xfrm>
          <a:prstGeom prst="wedgeRoundRectCallout">
            <a:avLst>
              <a:gd name="adj1" fmla="val -87064"/>
              <a:gd name="adj2" fmla="val 6032"/>
              <a:gd name="adj3" fmla="val 16667"/>
            </a:avLst>
          </a:prstGeom>
          <a:gradFill rotWithShape="0">
            <a:gsLst>
              <a:gs pos="0">
                <a:srgbClr val="ccccff">
                  <a:alpha val="55294"/>
                </a:srgbClr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have been doing some research and I am now sure that Qiblah 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ITHER TOWARDS NORTH EAST OR SOUTH EAS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What should I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96000" y="3500280"/>
            <a:ext cx="2730600" cy="2756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87280" y="4653000"/>
            <a:ext cx="4248360" cy="1081080"/>
          </a:xfrm>
          <a:prstGeom prst="wedgeEllipseCallout">
            <a:avLst>
              <a:gd name="adj1" fmla="val 77277"/>
              <a:gd name="adj2" fmla="val -25037"/>
            </a:avLst>
          </a:prstGeom>
          <a:gradFill rotWithShape="0">
            <a:gsLst>
              <a:gs pos="0">
                <a:srgbClr val="ccccff">
                  <a:alpha val="55294"/>
                </a:srgbClr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you mu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AY TW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fac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CH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51640" y="404640"/>
            <a:ext cx="1150920" cy="841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755640" y="404640"/>
            <a:ext cx="64771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cademy Engraved LET"/>
              </a:rPr>
              <a:t>UNCERTAINTY OF QIBLAH Masail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cademy Engraved LET"/>
              <a:ea typeface="Academy Engraved LE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96000" y="3500280"/>
            <a:ext cx="2730600" cy="2756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495" t="20979" r="16997" b="0"/>
          <a:stretch/>
        </p:blipFill>
        <p:spPr>
          <a:xfrm>
            <a:off x="900000" y="1413000"/>
            <a:ext cx="2405160" cy="2736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19640" y="1628640"/>
            <a:ext cx="4465440" cy="1295640"/>
          </a:xfrm>
          <a:prstGeom prst="wedgeRoundRectCallout">
            <a:avLst>
              <a:gd name="adj1" fmla="val -68662"/>
              <a:gd name="adj2" fmla="val 90319"/>
              <a:gd name="adj3" fmla="val 16667"/>
            </a:avLst>
          </a:prstGeom>
          <a:gradFill rotWithShape="0">
            <a:gsLst>
              <a:gs pos="0">
                <a:srgbClr val="ccccff">
                  <a:alpha val="55294"/>
                </a:srgbClr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ILL NOT SUR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hich direction Qiblah is, but I have a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 FEELI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it 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OUTH EAS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so what should I do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4869000"/>
            <a:ext cx="4824360" cy="1368360"/>
          </a:xfrm>
          <a:prstGeom prst="wedgeEllipseCallout">
            <a:avLst>
              <a:gd name="adj1" fmla="val 70699"/>
              <a:gd name="adj2" fmla="val -48837"/>
            </a:avLst>
          </a:prstGeom>
          <a:gradFill rotWithShape="0">
            <a:gsLst>
              <a:gs pos="0">
                <a:srgbClr val="ccccff">
                  <a:alpha val="55294"/>
                </a:srgbClr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, if you have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ONG FE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bout it, then you should pra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NG THAT DI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596360" y="549360"/>
            <a:ext cx="1150920" cy="841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755640" y="404640"/>
            <a:ext cx="64771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cademy Engraved LET"/>
              </a:rPr>
              <a:t>UNCERTAINTY OF QIBLAH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cademy Engraved LET"/>
              <a:ea typeface="Academy Engraved LE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26920" y="1484280"/>
            <a:ext cx="3097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MEMBER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637000"/>
            <a:ext cx="7920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you have no idea which direction to pray in t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ay in any direction if there isn’t enough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ay in all 4 directions if there is enough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you think it is one of 2 directions t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ay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you do not know the Qiblah and there is no way of finding out t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ay in the direction you have a strong feeling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96360" y="476280"/>
            <a:ext cx="1223640" cy="895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55640" y="404640"/>
            <a:ext cx="64771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cademy Engraved LET"/>
              </a:rPr>
              <a:t>UNCERTAINTY OF QIBLAH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cademy Engraved LET"/>
              <a:ea typeface="Academy Engraved LE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07:06:36Z</dcterms:created>
  <dc:creator>Sadiqa</dc:creator>
  <dc:description/>
  <dc:language>en-US</dc:language>
  <cp:lastModifiedBy>Sadiqa</cp:lastModifiedBy>
  <dcterms:modified xsi:type="dcterms:W3CDTF">2003-04-21T21:01:11Z</dcterms:modified>
  <cp:revision>12</cp:revision>
  <dc:subject/>
  <dc:title>Slide 1</dc:title>
</cp:coreProperties>
</file>